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13.jpeg" ContentType="image/jpeg"/>
  <Override PartName="/ppt/media/image4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21.wmf" ContentType="image/x-wmf"/>
  <Override PartName="/ppt/media/image19.wmf" ContentType="image/x-wmf"/>
  <Override PartName="/ppt/media/image14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25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25CE-3246-4219-8CA0-947E0D672C8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Produced by Lucy Zhang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Verified by Nancy Ya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Summer pa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2D55A-32E9-4643-97AA-28C9D554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B4F81-AABE-496B-A962-2F34680B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1314360" y="20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AA7FE-ED38-45ED-975A-C511F536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C2DEC-B0FA-4FFB-9229-849BD337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7D14E-251B-4705-8041-8D6E84A8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236E3-90BA-47BE-B83F-55651EF7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2F8B9-2691-4799-8FD3-0498FE2F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BCFBA-5DA4-49E9-B3CB-22510DF4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B32DC-98EA-4641-B8A6-40038F7A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4790-3BC0-4A99-AEE2-64C4F720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3F5-8778-42DC-A308-4CD61D1F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BA85-B991-4E62-B74F-866D76BB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CEAA-923A-4917-9534-8B3EF85F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D612-CCFE-4122-9D40-B9E1426F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14360" y="20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912-B9CC-47E3-98FC-02FC2CA9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E166-57EA-482B-8AF9-93C79AFB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0A43-166A-431E-B3FE-A2FE85DB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B407-A269-41AD-9B0C-A1E28226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171B-4644-4628-91F7-66767556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395-A6DC-4635-B194-BA96CB49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310-EBB5-4A1A-A6AF-A3B8953F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9342-C5DD-4523-AA95-4D833113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0F26-F35F-4A01-9A65-49190239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4B46-8F20-4899-AB2E-089BD530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E7CC-DED3-45AE-9E75-A44B2AE9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8B79-B206-4296-8319-6164EC5F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14360" y="20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687E-B44A-4688-999C-6BA53219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E7A1-4A8A-4530-ACA1-2652979F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53DA-4479-46E1-B2CF-CB6B3D94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0743-F88F-4DCE-8D06-93D1FA33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B3AE-87C7-42DD-AF37-DA95C2C1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DF18-74AD-4B91-8FC0-EF0C6974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FED6-B11D-426E-9128-1EC5B677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5B9CE-8CD8-434C-B595-D7EC4725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47C8D-403C-49AE-90DF-56783CAF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60D0B-5D5E-4BE3-B73B-66218CB2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5E6CB-CE67-49C3-B82B-8E4C3FE5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DCC42-2246-40A3-A4B8-75422A1C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314360" y="20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524E7-D292-4F3E-AA9B-0C4EEDE8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67754-0AD7-495B-9DC4-D3F53B98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9D598-8ECB-4BEB-A9BA-B47A1160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398FB-2FED-49DB-8A02-AC88BE45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3B827-E555-4B4D-9011-0D1B9A55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3CE4E-7BFD-4CE8-A765-9AB14EFE1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7AEB2-0637-42FF-B30D-E0E7528DD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23145-8230-4952-B070-3EA5F0DA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05444-1F3F-4E15-81CB-E6C37F43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71B2B-2067-4EA7-90A0-BCA61D59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060CC-FE16-40CB-B2BE-2355E945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80680-2096-431C-B4C0-11B3D639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314360" y="20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97BAA-BAD3-40D7-AA67-83D8A667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31D8F-A1B5-40EA-8C53-0AB3F043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E2622-1610-416A-8ADA-21F0ABD7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7D4BB-C9F7-4A92-97EA-0A931100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093F5-923B-405F-8321-D8534340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70E87-F7FE-426E-A1F0-C8DC4074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314360" y="20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27506-B8EC-4F7C-B563-6BC1B6A8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6FBC5-81DC-4C5B-924D-7D9F6F06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021BD-4C2B-428A-975E-94278900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94352-0312-4284-B866-5C15A1CC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9EFCD-99AC-45FB-B3D8-16BD544F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37954-8129-43BD-94CB-33BAD453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314360" y="20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0AD34-1AB0-4442-9E5C-EF246BCB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F0F77-BB49-4815-85BF-99769C04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09ED4-5DBD-4613-855D-560D5405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BC295-EC1F-48BB-9578-CB141B1E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1FC2A-36D6-4124-9A5A-17720E66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E5C63-167D-430B-9CFE-CEF5A98B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62113-26D4-448D-B52E-F154A9B1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59218-7814-4C1C-8CCB-5CBF90A3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72282-6CA4-432F-B455-10E6CB17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9985C-5E4B-4126-AEF9-A8088557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8D506-9C62-4926-A055-16A1613A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58234-3E1B-4362-AE67-163D6514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314360" y="20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7950F-D756-408E-8FDF-E347BDB1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AFE83-0682-4BAD-B80C-67D3E226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0F94D-C41A-41A8-BD3D-3421060A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3D182-7ABA-4C25-BF90-235985C8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A2004-30FE-4F3E-8A21-2906BF24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66B65-02A7-478D-B9F5-666B2364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E0DEB-DB66-42A1-9F3D-F685D947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303AD-A458-4FB4-A36B-3AA782AC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F24ED-1327-469C-BCD6-2C5CC7A1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89483-14A4-473A-B307-0F9AFB19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579DB-385E-4D68-A5B0-447703A7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73BD0-8014-4EFB-8AD9-5736947F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314360" y="20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BB5B4-3B7C-48BF-AF3E-74A69180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5E537-D35C-4C8B-A0A4-9328B6C3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4A1A3-19F1-43B5-8EF2-29D8DA3B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7FEFE-3DA1-4D81-BBA0-B7755AD1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0815D-F7F5-47B6-93DA-14BA6B28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ADC18-DBE4-4EA0-851C-3EE25913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73C0A-1018-4ADA-B455-F7CA8B8D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8A95E-20B4-4B92-9374-8E3E9046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E02FE-5937-4E6E-B459-B2BEA341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EA878-9BAA-4138-9860-39643618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6A36-799B-432C-A2C9-5F1FD0050F0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86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90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F942-B099-4764-BE70-AE8D9232DA2A}" type="slidenum">
              <a:rPr b="0" lang="zh-CN" sz="1400" spc="-1" strike="noStrike">
                <a:solidFill>
                  <a:srgbClr val="000000"/>
                </a:solidFill>
                <a:latin typeface="Impact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38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142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8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9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Impact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DB53-A694-4734-AD00-D9E34A595637}" type="slidenum">
              <a:rPr b="0" lang="zh-CN" sz="1400" spc="-1" strike="noStrike">
                <a:solidFill>
                  <a:srgbClr val="000000"/>
                </a:solidFill>
                <a:latin typeface="Impact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7884-5950-477A-8BBA-B6D06F338F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8CC4-34BC-413A-A739-B2FE30C03F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-25560" y="-56880"/>
            <a:ext cx="9166320" cy="7189920"/>
            <a:chOff x="-25560" y="-56880"/>
            <a:chExt cx="9166320" cy="7189920"/>
          </a:xfrm>
        </p:grpSpPr>
        <p:grpSp>
          <p:nvGrpSpPr>
            <p:cNvPr id="270" name="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275" name="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286" name="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5eeda"/>
                  </a:gs>
                  <a:gs pos="100000">
                    <a:srgbClr val="d5e3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294" name="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300" name="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314" name="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321" name="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325" name="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339" name="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343" name="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350" name="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8" name=""/>
            <p:cNvSpPr/>
            <p:nvPr/>
          </p:nvSpPr>
          <p:spPr>
            <a:xfrm>
              <a:off x="1290600" y="4680"/>
              <a:ext cx="7850160" cy="1508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16160" y="1441440"/>
              <a:ext cx="6021360" cy="8892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1436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503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5032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25032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25032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2503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A51A-D550-4A07-8326-E9EC24FABCD6}" type="slidenum">
              <a:rPr b="0" lang="en-GB" sz="1400" spc="-1" strike="noStrike">
                <a:solidFill>
                  <a:srgbClr val="425032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-25560" y="-56880"/>
            <a:ext cx="9163080" cy="7189920"/>
            <a:chOff x="-25560" y="-56880"/>
            <a:chExt cx="9163080" cy="7189920"/>
          </a:xfrm>
        </p:grpSpPr>
        <p:grpSp>
          <p:nvGrpSpPr>
            <p:cNvPr id="402" name=""/>
            <p:cNvGrpSpPr/>
            <p:nvPr/>
          </p:nvGrpSpPr>
          <p:grpSpPr>
            <a:xfrm>
              <a:off x="-25560" y="-56880"/>
              <a:ext cx="9161640" cy="7189920"/>
              <a:chOff x="-25560" y="-56880"/>
              <a:chExt cx="9161640" cy="718992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2908080" y="1080"/>
                <a:ext cx="331920" cy="6852240"/>
                <a:chOff x="2908080" y="1080"/>
                <a:chExt cx="331920" cy="685224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290808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V="1">
                  <a:off x="308124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8429400" y="4680"/>
                <a:ext cx="509760" cy="6854400"/>
                <a:chOff x="8429400" y="4680"/>
                <a:chExt cx="509760" cy="6854400"/>
              </a:xfrm>
            </p:grpSpPr>
            <p:sp>
              <p:nvSpPr>
                <p:cNvPr id="407" name=""/>
                <p:cNvSpPr/>
                <p:nvPr/>
              </p:nvSpPr>
              <p:spPr>
                <a:xfrm flipV="1">
                  <a:off x="8429400" y="7200"/>
                  <a:ext cx="50976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8695080" y="3960"/>
                  <a:ext cx="11340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790640" y="6120"/>
                <a:ext cx="611280" cy="6848280"/>
                <a:chOff x="1790640" y="6120"/>
                <a:chExt cx="611280" cy="68482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816200" y="6120"/>
                  <a:ext cx="585720" cy="415080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960560" y="3460680"/>
                  <a:ext cx="398520" cy="61992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790640" y="4129920"/>
                  <a:ext cx="600120" cy="27244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989000" y="4207680"/>
                  <a:ext cx="23184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677880" y="4680"/>
                <a:ext cx="639720" cy="6854760"/>
                <a:chOff x="677880" y="4680"/>
                <a:chExt cx="639720" cy="685476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677880" y="4680"/>
                  <a:ext cx="6397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16">
                      <a:moveTo>
                        <a:pt x="40" y="0"/>
                      </a:moveTo>
                      <a:cubicBezTo>
                        <a:pt x="33" y="185"/>
                        <a:pt x="50" y="797"/>
                        <a:pt x="44" y="1104"/>
                      </a:cubicBezTo>
                      <a:cubicBezTo>
                        <a:pt x="38" y="1411"/>
                        <a:pt x="12" y="1699"/>
                        <a:pt x="6" y="1845"/>
                      </a:cubicBezTo>
                      <a:cubicBezTo>
                        <a:pt x="0" y="1991"/>
                        <a:pt x="4" y="1952"/>
                        <a:pt x="6" y="1982"/>
                      </a:cubicBezTo>
                      <a:cubicBezTo>
                        <a:pt x="8" y="2012"/>
                        <a:pt x="17" y="2010"/>
                        <a:pt x="20" y="2024"/>
                      </a:cubicBezTo>
                      <a:cubicBezTo>
                        <a:pt x="23" y="2038"/>
                        <a:pt x="26" y="2052"/>
                        <a:pt x="24" y="2068"/>
                      </a:cubicBezTo>
                      <a:cubicBezTo>
                        <a:pt x="22" y="2084"/>
                        <a:pt x="9" y="2095"/>
                        <a:pt x="6" y="2119"/>
                      </a:cubicBezTo>
                      <a:cubicBezTo>
                        <a:pt x="3" y="2143"/>
                        <a:pt x="2" y="2153"/>
                        <a:pt x="6" y="2210"/>
                      </a:cubicBezTo>
                      <a:cubicBezTo>
                        <a:pt x="10" y="2267"/>
                        <a:pt x="25" y="2325"/>
                        <a:pt x="28" y="2464"/>
                      </a:cubicBezTo>
                      <a:cubicBezTo>
                        <a:pt x="31" y="2603"/>
                        <a:pt x="24" y="2735"/>
                        <a:pt x="24" y="3044"/>
                      </a:cubicBezTo>
                      <a:cubicBezTo>
                        <a:pt x="24" y="3353"/>
                        <a:pt x="19" y="4105"/>
                        <a:pt x="28" y="4316"/>
                      </a:cubicBezTo>
                      <a:lnTo>
                        <a:pt x="80" y="4312"/>
                      </a:lnTo>
                      <a:cubicBezTo>
                        <a:pt x="90" y="4141"/>
                        <a:pt x="87" y="3604"/>
                        <a:pt x="88" y="3288"/>
                      </a:cubicBezTo>
                      <a:cubicBezTo>
                        <a:pt x="89" y="2972"/>
                        <a:pt x="89" y="2596"/>
                        <a:pt x="84" y="2416"/>
                      </a:cubicBezTo>
                      <a:cubicBezTo>
                        <a:pt x="92" y="2340"/>
                        <a:pt x="69" y="2262"/>
                        <a:pt x="60" y="2208"/>
                      </a:cubicBezTo>
                      <a:cubicBezTo>
                        <a:pt x="52" y="2148"/>
                        <a:pt x="48" y="2110"/>
                        <a:pt x="92" y="2100"/>
                      </a:cubicBezTo>
                      <a:cubicBezTo>
                        <a:pt x="134" y="2086"/>
                        <a:pt x="190" y="2081"/>
                        <a:pt x="240" y="2084"/>
                      </a:cubicBezTo>
                      <a:cubicBezTo>
                        <a:pt x="289" y="2081"/>
                        <a:pt x="353" y="2077"/>
                        <a:pt x="384" y="2084"/>
                      </a:cubicBezTo>
                      <a:cubicBezTo>
                        <a:pt x="415" y="2091"/>
                        <a:pt x="421" y="2103"/>
                        <a:pt x="428" y="2128"/>
                      </a:cubicBezTo>
                      <a:cubicBezTo>
                        <a:pt x="435" y="2153"/>
                        <a:pt x="425" y="2200"/>
                        <a:pt x="424" y="2236"/>
                      </a:cubicBezTo>
                      <a:cubicBezTo>
                        <a:pt x="423" y="2272"/>
                        <a:pt x="423" y="2301"/>
                        <a:pt x="420" y="2344"/>
                      </a:cubicBezTo>
                      <a:cubicBezTo>
                        <a:pt x="411" y="2391"/>
                        <a:pt x="412" y="2168"/>
                        <a:pt x="408" y="2496"/>
                      </a:cubicBezTo>
                      <a:cubicBezTo>
                        <a:pt x="404" y="2824"/>
                        <a:pt x="384" y="4011"/>
                        <a:pt x="395" y="4313"/>
                      </a:cubicBezTo>
                      <a:lnTo>
                        <a:pt x="476" y="4310"/>
                      </a:lnTo>
                      <a:cubicBezTo>
                        <a:pt x="486" y="4194"/>
                        <a:pt x="460" y="3920"/>
                        <a:pt x="459" y="3614"/>
                      </a:cubicBezTo>
                      <a:cubicBezTo>
                        <a:pt x="458" y="3308"/>
                        <a:pt x="462" y="2713"/>
                        <a:pt x="468" y="2472"/>
                      </a:cubicBezTo>
                      <a:cubicBezTo>
                        <a:pt x="464" y="2328"/>
                        <a:pt x="493" y="2218"/>
                        <a:pt x="493" y="2165"/>
                      </a:cubicBezTo>
                      <a:cubicBezTo>
                        <a:pt x="493" y="2111"/>
                        <a:pt x="480" y="2100"/>
                        <a:pt x="468" y="2048"/>
                      </a:cubicBezTo>
                      <a:cubicBezTo>
                        <a:pt x="490" y="2027"/>
                        <a:pt x="484" y="2023"/>
                        <a:pt x="487" y="1982"/>
                      </a:cubicBezTo>
                      <a:cubicBezTo>
                        <a:pt x="490" y="1941"/>
                        <a:pt x="492" y="1960"/>
                        <a:pt x="487" y="1800"/>
                      </a:cubicBezTo>
                      <a:cubicBezTo>
                        <a:pt x="482" y="1640"/>
                        <a:pt x="459" y="1324"/>
                        <a:pt x="456" y="1024"/>
                      </a:cubicBezTo>
                      <a:cubicBezTo>
                        <a:pt x="453" y="724"/>
                        <a:pt x="474" y="171"/>
                        <a:pt x="468" y="0"/>
                      </a:cubicBezTo>
                      <a:lnTo>
                        <a:pt x="420" y="0"/>
                      </a:lnTo>
                      <a:cubicBezTo>
                        <a:pt x="411" y="87"/>
                        <a:pt x="415" y="371"/>
                        <a:pt x="412" y="524"/>
                      </a:cubicBezTo>
                      <a:cubicBezTo>
                        <a:pt x="409" y="677"/>
                        <a:pt x="403" y="742"/>
                        <a:pt x="404" y="920"/>
                      </a:cubicBezTo>
                      <a:cubicBezTo>
                        <a:pt x="405" y="1098"/>
                        <a:pt x="415" y="1419"/>
                        <a:pt x="420" y="1592"/>
                      </a:cubicBezTo>
                      <a:cubicBezTo>
                        <a:pt x="425" y="1765"/>
                        <a:pt x="439" y="1884"/>
                        <a:pt x="436" y="1956"/>
                      </a:cubicBezTo>
                      <a:cubicBezTo>
                        <a:pt x="432" y="1980"/>
                        <a:pt x="441" y="2017"/>
                        <a:pt x="400" y="2024"/>
                      </a:cubicBezTo>
                      <a:cubicBezTo>
                        <a:pt x="373" y="2037"/>
                        <a:pt x="295" y="2005"/>
                        <a:pt x="244" y="2004"/>
                      </a:cubicBezTo>
                      <a:cubicBezTo>
                        <a:pt x="193" y="2003"/>
                        <a:pt x="128" y="2042"/>
                        <a:pt x="96" y="2016"/>
                      </a:cubicBezTo>
                      <a:cubicBezTo>
                        <a:pt x="64" y="1990"/>
                        <a:pt x="55" y="1955"/>
                        <a:pt x="54" y="1845"/>
                      </a:cubicBezTo>
                      <a:cubicBezTo>
                        <a:pt x="53" y="1735"/>
                        <a:pt x="82" y="1567"/>
                        <a:pt x="88" y="1356"/>
                      </a:cubicBezTo>
                      <a:cubicBezTo>
                        <a:pt x="94" y="1145"/>
                        <a:pt x="93" y="806"/>
                        <a:pt x="92" y="580"/>
                      </a:cubicBezTo>
                      <a:cubicBezTo>
                        <a:pt x="91" y="354"/>
                        <a:pt x="93" y="97"/>
                        <a:pt x="84" y="0"/>
                      </a:cubicBez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011240" y="3362400"/>
                  <a:ext cx="142560" cy="34970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546440" y="0"/>
                <a:ext cx="628920" cy="6854400"/>
                <a:chOff x="4546440" y="0"/>
                <a:chExt cx="628920" cy="6854400"/>
              </a:xfrm>
            </p:grpSpPr>
            <p:sp>
              <p:nvSpPr>
                <p:cNvPr id="418" name=""/>
                <p:cNvSpPr/>
                <p:nvPr/>
              </p:nvSpPr>
              <p:spPr>
                <a:xfrm flipV="1">
                  <a:off x="4546440" y="2520"/>
                  <a:ext cx="628920" cy="6851520"/>
                </a:xfrm>
                <a:custGeom>
                  <a:avLst/>
                  <a:gdLst/>
                  <a:ahLst/>
                  <a:rect l="l" t="t" r="r" b="b"/>
                  <a:pathLst>
                    <a:path w="493" h="4323">
                      <a:moveTo>
                        <a:pt x="40" y="7"/>
                      </a:moveTo>
                      <a:cubicBezTo>
                        <a:pt x="33" y="192"/>
                        <a:pt x="50" y="804"/>
                        <a:pt x="44" y="1111"/>
                      </a:cubicBezTo>
                      <a:cubicBezTo>
                        <a:pt x="38" y="1418"/>
                        <a:pt x="12" y="1706"/>
                        <a:pt x="6" y="1852"/>
                      </a:cubicBezTo>
                      <a:cubicBezTo>
                        <a:pt x="0" y="1998"/>
                        <a:pt x="4" y="1959"/>
                        <a:pt x="6" y="1989"/>
                      </a:cubicBezTo>
                      <a:cubicBezTo>
                        <a:pt x="8" y="2019"/>
                        <a:pt x="17" y="2017"/>
                        <a:pt x="20" y="2031"/>
                      </a:cubicBezTo>
                      <a:cubicBezTo>
                        <a:pt x="23" y="2045"/>
                        <a:pt x="26" y="2059"/>
                        <a:pt x="24" y="2075"/>
                      </a:cubicBezTo>
                      <a:cubicBezTo>
                        <a:pt x="22" y="2091"/>
                        <a:pt x="9" y="2102"/>
                        <a:pt x="6" y="2126"/>
                      </a:cubicBezTo>
                      <a:cubicBezTo>
                        <a:pt x="3" y="2150"/>
                        <a:pt x="2" y="2160"/>
                        <a:pt x="6" y="2217"/>
                      </a:cubicBezTo>
                      <a:cubicBezTo>
                        <a:pt x="10" y="2274"/>
                        <a:pt x="25" y="2332"/>
                        <a:pt x="28" y="2471"/>
                      </a:cubicBezTo>
                      <a:cubicBezTo>
                        <a:pt x="31" y="2610"/>
                        <a:pt x="24" y="2742"/>
                        <a:pt x="24" y="3051"/>
                      </a:cubicBezTo>
                      <a:cubicBezTo>
                        <a:pt x="24" y="3360"/>
                        <a:pt x="19" y="4112"/>
                        <a:pt x="28" y="4323"/>
                      </a:cubicBezTo>
                      <a:lnTo>
                        <a:pt x="80" y="4319"/>
                      </a:lnTo>
                      <a:cubicBezTo>
                        <a:pt x="90" y="4148"/>
                        <a:pt x="87" y="3611"/>
                        <a:pt x="88" y="3295"/>
                      </a:cubicBezTo>
                      <a:cubicBezTo>
                        <a:pt x="89" y="2979"/>
                        <a:pt x="89" y="2603"/>
                        <a:pt x="84" y="2423"/>
                      </a:cubicBezTo>
                      <a:cubicBezTo>
                        <a:pt x="92" y="2347"/>
                        <a:pt x="69" y="2269"/>
                        <a:pt x="60" y="2215"/>
                      </a:cubicBezTo>
                      <a:cubicBezTo>
                        <a:pt x="52" y="2155"/>
                        <a:pt x="48" y="2117"/>
                        <a:pt x="92" y="2107"/>
                      </a:cubicBezTo>
                      <a:cubicBezTo>
                        <a:pt x="134" y="2093"/>
                        <a:pt x="190" y="2088"/>
                        <a:pt x="240" y="2091"/>
                      </a:cubicBezTo>
                      <a:cubicBezTo>
                        <a:pt x="289" y="2088"/>
                        <a:pt x="353" y="2084"/>
                        <a:pt x="384" y="2091"/>
                      </a:cubicBezTo>
                      <a:cubicBezTo>
                        <a:pt x="415" y="2098"/>
                        <a:pt x="421" y="2110"/>
                        <a:pt x="428" y="2135"/>
                      </a:cubicBezTo>
                      <a:cubicBezTo>
                        <a:pt x="435" y="2160"/>
                        <a:pt x="425" y="2207"/>
                        <a:pt x="424" y="2243"/>
                      </a:cubicBezTo>
                      <a:cubicBezTo>
                        <a:pt x="423" y="2279"/>
                        <a:pt x="423" y="2308"/>
                        <a:pt x="420" y="2351"/>
                      </a:cubicBezTo>
                      <a:cubicBezTo>
                        <a:pt x="411" y="2398"/>
                        <a:pt x="412" y="2175"/>
                        <a:pt x="408" y="2503"/>
                      </a:cubicBezTo>
                      <a:cubicBezTo>
                        <a:pt x="404" y="2831"/>
                        <a:pt x="384" y="4018"/>
                        <a:pt x="395" y="4320"/>
                      </a:cubicBezTo>
                      <a:lnTo>
                        <a:pt x="476" y="4317"/>
                      </a:lnTo>
                      <a:cubicBezTo>
                        <a:pt x="486" y="4201"/>
                        <a:pt x="460" y="3927"/>
                        <a:pt x="459" y="3621"/>
                      </a:cubicBezTo>
                      <a:cubicBezTo>
                        <a:pt x="458" y="3315"/>
                        <a:pt x="462" y="2720"/>
                        <a:pt x="468" y="2479"/>
                      </a:cubicBezTo>
                      <a:cubicBezTo>
                        <a:pt x="464" y="2335"/>
                        <a:pt x="493" y="2225"/>
                        <a:pt x="493" y="2172"/>
                      </a:cubicBezTo>
                      <a:cubicBezTo>
                        <a:pt x="493" y="2118"/>
                        <a:pt x="480" y="2107"/>
                        <a:pt x="468" y="2055"/>
                      </a:cubicBezTo>
                      <a:cubicBezTo>
                        <a:pt x="490" y="2034"/>
                        <a:pt x="484" y="2030"/>
                        <a:pt x="487" y="1989"/>
                      </a:cubicBezTo>
                      <a:cubicBezTo>
                        <a:pt x="490" y="1948"/>
                        <a:pt x="492" y="1967"/>
                        <a:pt x="487" y="1807"/>
                      </a:cubicBezTo>
                      <a:cubicBezTo>
                        <a:pt x="482" y="1647"/>
                        <a:pt x="458" y="1332"/>
                        <a:pt x="456" y="1031"/>
                      </a:cubicBezTo>
                      <a:cubicBezTo>
                        <a:pt x="454" y="730"/>
                        <a:pt x="479" y="171"/>
                        <a:pt x="472" y="0"/>
                      </a:cubicBezTo>
                      <a:lnTo>
                        <a:pt x="416" y="3"/>
                      </a:lnTo>
                      <a:cubicBezTo>
                        <a:pt x="406" y="91"/>
                        <a:pt x="414" y="377"/>
                        <a:pt x="412" y="531"/>
                      </a:cubicBezTo>
                      <a:cubicBezTo>
                        <a:pt x="410" y="685"/>
                        <a:pt x="403" y="749"/>
                        <a:pt x="404" y="927"/>
                      </a:cubicBezTo>
                      <a:cubicBezTo>
                        <a:pt x="405" y="1105"/>
                        <a:pt x="415" y="1426"/>
                        <a:pt x="420" y="1599"/>
                      </a:cubicBezTo>
                      <a:cubicBezTo>
                        <a:pt x="425" y="1772"/>
                        <a:pt x="439" y="1891"/>
                        <a:pt x="436" y="1963"/>
                      </a:cubicBezTo>
                      <a:cubicBezTo>
                        <a:pt x="432" y="1987"/>
                        <a:pt x="441" y="2024"/>
                        <a:pt x="400" y="2031"/>
                      </a:cubicBezTo>
                      <a:cubicBezTo>
                        <a:pt x="373" y="2044"/>
                        <a:pt x="295" y="2012"/>
                        <a:pt x="244" y="2011"/>
                      </a:cubicBezTo>
                      <a:cubicBezTo>
                        <a:pt x="193" y="2010"/>
                        <a:pt x="128" y="2049"/>
                        <a:pt x="96" y="2023"/>
                      </a:cubicBezTo>
                      <a:cubicBezTo>
                        <a:pt x="64" y="1997"/>
                        <a:pt x="55" y="1962"/>
                        <a:pt x="54" y="1852"/>
                      </a:cubicBezTo>
                      <a:cubicBezTo>
                        <a:pt x="53" y="1742"/>
                        <a:pt x="82" y="1574"/>
                        <a:pt x="88" y="1363"/>
                      </a:cubicBezTo>
                      <a:cubicBezTo>
                        <a:pt x="94" y="1152"/>
                        <a:pt x="92" y="814"/>
                        <a:pt x="92" y="587"/>
                      </a:cubicBezTo>
                      <a:cubicBezTo>
                        <a:pt x="92" y="360"/>
                        <a:pt x="97" y="100"/>
                        <a:pt x="88" y="3"/>
                      </a:cubicBez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V="1">
                  <a:off x="4874400" y="-360"/>
                  <a:ext cx="140040" cy="349164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"/>
              <p:cNvSpPr/>
              <p:nvPr/>
            </p:nvSpPr>
            <p:spPr>
              <a:xfrm flipH="1" rot="2200200">
                <a:off x="3464280" y="3916080"/>
                <a:ext cx="760680" cy="15080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 rot="21429000">
                <a:off x="3638160" y="4654080"/>
                <a:ext cx="1120680" cy="16099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057640" y="3900240"/>
                <a:ext cx="1552680" cy="52704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20854800">
                <a:off x="5227560" y="4335120"/>
                <a:ext cx="1120680" cy="160956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5eeda"/>
                  </a:gs>
                  <a:gs pos="100000">
                    <a:srgbClr val="d5e3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48040" y="4713120"/>
                <a:ext cx="752760" cy="18478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5" name=""/>
              <p:cNvGrpSpPr/>
              <p:nvPr/>
            </p:nvGrpSpPr>
            <p:grpSpPr>
              <a:xfrm>
                <a:off x="3054240" y="-56880"/>
                <a:ext cx="3519000" cy="2722320"/>
                <a:chOff x="3054240" y="-56880"/>
                <a:chExt cx="3519000" cy="2722320"/>
              </a:xfrm>
            </p:grpSpPr>
            <p:sp>
              <p:nvSpPr>
                <p:cNvPr id="426" name=""/>
                <p:cNvSpPr/>
                <p:nvPr/>
              </p:nvSpPr>
              <p:spPr>
                <a:xfrm flipH="1" rot="2200200">
                  <a:off x="3428640" y="20880"/>
                  <a:ext cx="760320" cy="15080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H="1" rot="21429000">
                  <a:off x="3601440" y="7585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5020920" y="4680"/>
                  <a:ext cx="155232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rot="20854800">
                  <a:off x="5190840" y="439920"/>
                  <a:ext cx="112032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711320" y="81756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277200" y="1751040"/>
                <a:ext cx="3577320" cy="2708280"/>
                <a:chOff x="277200" y="1751040"/>
                <a:chExt cx="3577320" cy="2708280"/>
              </a:xfrm>
            </p:grpSpPr>
            <p:sp>
              <p:nvSpPr>
                <p:cNvPr id="432" name=""/>
                <p:cNvSpPr/>
                <p:nvPr/>
              </p:nvSpPr>
              <p:spPr>
                <a:xfrm rot="20854800">
                  <a:off x="2509920" y="2161800"/>
                  <a:ext cx="1120680" cy="16095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052720" y="2611440"/>
                  <a:ext cx="752400" cy="184788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301840" y="175104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flipH="1" rot="745200">
                  <a:off x="689760" y="2401560"/>
                  <a:ext cx="1120680" cy="16099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H="1" rot="505800">
                  <a:off x="307080" y="1964880"/>
                  <a:ext cx="1552680" cy="5270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7394400" y="4680"/>
                <a:ext cx="611280" cy="6838920"/>
                <a:chOff x="7394400" y="4680"/>
                <a:chExt cx="611280" cy="683892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7419960" y="4680"/>
                  <a:ext cx="585720" cy="4145040"/>
                </a:xfrm>
                <a:custGeom>
                  <a:avLst/>
                  <a:gdLst/>
                  <a:ahLst/>
                  <a:rect l="l" t="t" r="r" b="b"/>
                  <a:pathLst>
                    <a:path w="369" h="2611">
                      <a:moveTo>
                        <a:pt x="22" y="0"/>
                      </a:moveTo>
                      <a:lnTo>
                        <a:pt x="14" y="1622"/>
                      </a:lnTo>
                      <a:cubicBezTo>
                        <a:pt x="14" y="1622"/>
                        <a:pt x="10" y="2084"/>
                        <a:pt x="6" y="2547"/>
                      </a:cubicBezTo>
                      <a:cubicBezTo>
                        <a:pt x="0" y="2588"/>
                        <a:pt x="8" y="2597"/>
                        <a:pt x="38" y="2604"/>
                      </a:cubicBezTo>
                      <a:cubicBezTo>
                        <a:pt x="68" y="2611"/>
                        <a:pt x="134" y="2589"/>
                        <a:pt x="184" y="2588"/>
                      </a:cubicBezTo>
                      <a:cubicBezTo>
                        <a:pt x="234" y="2587"/>
                        <a:pt x="309" y="2605"/>
                        <a:pt x="339" y="2596"/>
                      </a:cubicBezTo>
                      <a:cubicBezTo>
                        <a:pt x="369" y="2587"/>
                        <a:pt x="366" y="2567"/>
                        <a:pt x="363" y="2531"/>
                      </a:cubicBezTo>
                      <a:cubicBezTo>
                        <a:pt x="363" y="2378"/>
                        <a:pt x="343" y="2101"/>
                        <a:pt x="339" y="1679"/>
                      </a:cubicBezTo>
                      <a:lnTo>
                        <a:pt x="339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564320" y="3454200"/>
                  <a:ext cx="398520" cy="619200"/>
                </a:xfrm>
                <a:custGeom>
                  <a:avLst/>
                  <a:gdLst/>
                  <a:ahLst/>
                  <a:rect l="l" t="t" r="r" b="b"/>
                  <a:pathLst>
                    <a:path w="251" h="390">
                      <a:moveTo>
                        <a:pt x="32" y="379"/>
                      </a:moveTo>
                      <a:cubicBezTo>
                        <a:pt x="43" y="377"/>
                        <a:pt x="57" y="366"/>
                        <a:pt x="77" y="364"/>
                      </a:cubicBezTo>
                      <a:cubicBezTo>
                        <a:pt x="97" y="362"/>
                        <a:pt x="130" y="366"/>
                        <a:pt x="152" y="370"/>
                      </a:cubicBezTo>
                      <a:cubicBezTo>
                        <a:pt x="174" y="374"/>
                        <a:pt x="194" y="386"/>
                        <a:pt x="209" y="388"/>
                      </a:cubicBezTo>
                      <a:cubicBezTo>
                        <a:pt x="224" y="390"/>
                        <a:pt x="235" y="389"/>
                        <a:pt x="242" y="379"/>
                      </a:cubicBezTo>
                      <a:cubicBezTo>
                        <a:pt x="249" y="369"/>
                        <a:pt x="251" y="362"/>
                        <a:pt x="248" y="328"/>
                      </a:cubicBezTo>
                      <a:cubicBezTo>
                        <a:pt x="245" y="294"/>
                        <a:pt x="236" y="208"/>
                        <a:pt x="227" y="175"/>
                      </a:cubicBezTo>
                      <a:cubicBezTo>
                        <a:pt x="218" y="142"/>
                        <a:pt x="202" y="110"/>
                        <a:pt x="194" y="130"/>
                      </a:cubicBezTo>
                      <a:cubicBezTo>
                        <a:pt x="186" y="150"/>
                        <a:pt x="186" y="266"/>
                        <a:pt x="179" y="295"/>
                      </a:cubicBezTo>
                      <a:cubicBezTo>
                        <a:pt x="172" y="324"/>
                        <a:pt x="159" y="329"/>
                        <a:pt x="152" y="307"/>
                      </a:cubicBezTo>
                      <a:cubicBezTo>
                        <a:pt x="145" y="285"/>
                        <a:pt x="149" y="212"/>
                        <a:pt x="134" y="163"/>
                      </a:cubicBezTo>
                      <a:cubicBezTo>
                        <a:pt x="119" y="114"/>
                        <a:pt x="82" y="26"/>
                        <a:pt x="65" y="13"/>
                      </a:cubicBezTo>
                      <a:cubicBezTo>
                        <a:pt x="48" y="0"/>
                        <a:pt x="35" y="42"/>
                        <a:pt x="29" y="85"/>
                      </a:cubicBezTo>
                      <a:cubicBezTo>
                        <a:pt x="23" y="128"/>
                        <a:pt x="30" y="229"/>
                        <a:pt x="26" y="271"/>
                      </a:cubicBezTo>
                      <a:cubicBezTo>
                        <a:pt x="22" y="313"/>
                        <a:pt x="4" y="319"/>
                        <a:pt x="2" y="337"/>
                      </a:cubicBezTo>
                      <a:cubicBezTo>
                        <a:pt x="0" y="355"/>
                        <a:pt x="5" y="373"/>
                        <a:pt x="11" y="379"/>
                      </a:cubicBezTo>
                      <a:cubicBezTo>
                        <a:pt x="17" y="385"/>
                        <a:pt x="21" y="381"/>
                        <a:pt x="32" y="37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5e3c3"/>
                    </a:gs>
                    <a:gs pos="100000">
                      <a:srgbClr val="e5ee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394400" y="4122720"/>
                  <a:ext cx="600120" cy="2720880"/>
                </a:xfrm>
                <a:custGeom>
                  <a:avLst/>
                  <a:gdLst/>
                  <a:ahLst/>
                  <a:rect l="l" t="t" r="r" b="b"/>
                  <a:pathLst>
                    <a:path w="378" h="1714">
                      <a:moveTo>
                        <a:pt x="0" y="1714"/>
                      </a:moveTo>
                      <a:cubicBezTo>
                        <a:pt x="15" y="1400"/>
                        <a:pt x="10" y="693"/>
                        <a:pt x="15" y="420"/>
                      </a:cubicBezTo>
                      <a:cubicBezTo>
                        <a:pt x="18" y="145"/>
                        <a:pt x="8" y="126"/>
                        <a:pt x="19" y="63"/>
                      </a:cubicBezTo>
                      <a:cubicBezTo>
                        <a:pt x="30" y="0"/>
                        <a:pt x="49" y="46"/>
                        <a:pt x="79" y="39"/>
                      </a:cubicBezTo>
                      <a:cubicBezTo>
                        <a:pt x="109" y="32"/>
                        <a:pt x="157" y="21"/>
                        <a:pt x="202" y="18"/>
                      </a:cubicBezTo>
                      <a:cubicBezTo>
                        <a:pt x="268" y="33"/>
                        <a:pt x="324" y="6"/>
                        <a:pt x="351" y="23"/>
                      </a:cubicBezTo>
                      <a:cubicBezTo>
                        <a:pt x="378" y="40"/>
                        <a:pt x="370" y="51"/>
                        <a:pt x="366" y="120"/>
                      </a:cubicBezTo>
                      <a:cubicBezTo>
                        <a:pt x="367" y="240"/>
                        <a:pt x="362" y="475"/>
                        <a:pt x="359" y="741"/>
                      </a:cubicBezTo>
                      <a:cubicBezTo>
                        <a:pt x="356" y="1007"/>
                        <a:pt x="351" y="1430"/>
                        <a:pt x="351" y="1714"/>
                      </a:cubicBezTo>
                      <a:cubicBezTo>
                        <a:pt x="351" y="1714"/>
                        <a:pt x="0" y="1714"/>
                        <a:pt x="0" y="1714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593120" y="4200480"/>
                  <a:ext cx="231480" cy="244440"/>
                </a:xfrm>
                <a:custGeom>
                  <a:avLst/>
                  <a:gdLst/>
                  <a:ahLst/>
                  <a:rect l="l" t="t" r="r" b="b"/>
                  <a:pathLst>
                    <a:path w="146" h="154">
                      <a:moveTo>
                        <a:pt x="14" y="11"/>
                      </a:moveTo>
                      <a:cubicBezTo>
                        <a:pt x="28" y="2"/>
                        <a:pt x="71" y="2"/>
                        <a:pt x="92" y="2"/>
                      </a:cubicBezTo>
                      <a:cubicBezTo>
                        <a:pt x="113" y="2"/>
                        <a:pt x="134" y="0"/>
                        <a:pt x="140" y="14"/>
                      </a:cubicBezTo>
                      <a:cubicBezTo>
                        <a:pt x="146" y="28"/>
                        <a:pt x="132" y="67"/>
                        <a:pt x="128" y="89"/>
                      </a:cubicBezTo>
                      <a:cubicBezTo>
                        <a:pt x="124" y="111"/>
                        <a:pt x="125" y="138"/>
                        <a:pt x="116" y="146"/>
                      </a:cubicBezTo>
                      <a:cubicBezTo>
                        <a:pt x="107" y="154"/>
                        <a:pt x="88" y="137"/>
                        <a:pt x="74" y="134"/>
                      </a:cubicBezTo>
                      <a:cubicBezTo>
                        <a:pt x="60" y="131"/>
                        <a:pt x="44" y="141"/>
                        <a:pt x="32" y="128"/>
                      </a:cubicBezTo>
                      <a:cubicBezTo>
                        <a:pt x="20" y="115"/>
                        <a:pt x="8" y="75"/>
                        <a:pt x="5" y="56"/>
                      </a:cubicBezTo>
                      <a:cubicBezTo>
                        <a:pt x="2" y="37"/>
                        <a:pt x="0" y="20"/>
                        <a:pt x="14" y="1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5eeda"/>
                    </a:gs>
                    <a:gs pos="100000">
                      <a:srgbClr val="d5e3c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5553000" y="4680"/>
                <a:ext cx="784080" cy="6846480"/>
                <a:chOff x="5553000" y="4680"/>
                <a:chExt cx="784080" cy="68464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5553000" y="15480"/>
                  <a:ext cx="660240" cy="6835680"/>
                </a:xfrm>
                <a:custGeom>
                  <a:avLst/>
                  <a:gdLst/>
                  <a:ahLst/>
                  <a:rect l="l" t="t" r="r" b="b"/>
                  <a:pathLst>
                    <a:path w="416" h="4321">
                      <a:moveTo>
                        <a:pt x="12" y="0"/>
                      </a:moveTo>
                      <a:lnTo>
                        <a:pt x="18" y="406"/>
                      </a:lnTo>
                      <a:lnTo>
                        <a:pt x="3" y="662"/>
                      </a:lnTo>
                      <a:lnTo>
                        <a:pt x="8" y="713"/>
                      </a:lnTo>
                      <a:lnTo>
                        <a:pt x="24" y="740"/>
                      </a:lnTo>
                      <a:lnTo>
                        <a:pt x="42" y="758"/>
                      </a:lnTo>
                      <a:lnTo>
                        <a:pt x="36" y="803"/>
                      </a:lnTo>
                      <a:lnTo>
                        <a:pt x="12" y="824"/>
                      </a:lnTo>
                      <a:lnTo>
                        <a:pt x="0" y="878"/>
                      </a:lnTo>
                      <a:cubicBezTo>
                        <a:pt x="0" y="1224"/>
                        <a:pt x="8" y="2504"/>
                        <a:pt x="9" y="2903"/>
                      </a:cubicBezTo>
                      <a:cubicBezTo>
                        <a:pt x="10" y="3302"/>
                        <a:pt x="8" y="3205"/>
                        <a:pt x="9" y="3276"/>
                      </a:cubicBezTo>
                      <a:lnTo>
                        <a:pt x="16" y="3330"/>
                      </a:lnTo>
                      <a:lnTo>
                        <a:pt x="42" y="3354"/>
                      </a:lnTo>
                      <a:lnTo>
                        <a:pt x="51" y="3390"/>
                      </a:lnTo>
                      <a:lnTo>
                        <a:pt x="39" y="3427"/>
                      </a:lnTo>
                      <a:lnTo>
                        <a:pt x="24" y="3466"/>
                      </a:lnTo>
                      <a:cubicBezTo>
                        <a:pt x="23" y="3615"/>
                        <a:pt x="18" y="4179"/>
                        <a:pt x="31" y="4321"/>
                      </a:cubicBezTo>
                      <a:lnTo>
                        <a:pt x="102" y="4317"/>
                      </a:lnTo>
                      <a:cubicBezTo>
                        <a:pt x="112" y="4185"/>
                        <a:pt x="91" y="3666"/>
                        <a:pt x="93" y="3529"/>
                      </a:cubicBezTo>
                      <a:lnTo>
                        <a:pt x="117" y="3496"/>
                      </a:lnTo>
                      <a:lnTo>
                        <a:pt x="156" y="3493"/>
                      </a:lnTo>
                      <a:cubicBezTo>
                        <a:pt x="186" y="3494"/>
                        <a:pt x="266" y="3501"/>
                        <a:pt x="297" y="3502"/>
                      </a:cubicBezTo>
                      <a:cubicBezTo>
                        <a:pt x="328" y="3503"/>
                        <a:pt x="335" y="3506"/>
                        <a:pt x="345" y="3502"/>
                      </a:cubicBezTo>
                      <a:cubicBezTo>
                        <a:pt x="355" y="3498"/>
                        <a:pt x="362" y="3485"/>
                        <a:pt x="357" y="3478"/>
                      </a:cubicBezTo>
                      <a:cubicBezTo>
                        <a:pt x="352" y="3471"/>
                        <a:pt x="353" y="3465"/>
                        <a:pt x="315" y="3459"/>
                      </a:cubicBezTo>
                      <a:cubicBezTo>
                        <a:pt x="277" y="3453"/>
                        <a:pt x="164" y="3449"/>
                        <a:pt x="128" y="3444"/>
                      </a:cubicBezTo>
                      <a:cubicBezTo>
                        <a:pt x="92" y="3439"/>
                        <a:pt x="100" y="3436"/>
                        <a:pt x="99" y="3430"/>
                      </a:cubicBezTo>
                      <a:cubicBezTo>
                        <a:pt x="98" y="3424"/>
                        <a:pt x="102" y="3413"/>
                        <a:pt x="120" y="3408"/>
                      </a:cubicBezTo>
                      <a:lnTo>
                        <a:pt x="210" y="3399"/>
                      </a:lnTo>
                      <a:cubicBezTo>
                        <a:pt x="246" y="3397"/>
                        <a:pt x="309" y="3401"/>
                        <a:pt x="337" y="3398"/>
                      </a:cubicBezTo>
                      <a:cubicBezTo>
                        <a:pt x="365" y="3395"/>
                        <a:pt x="416" y="3385"/>
                        <a:pt x="381" y="3381"/>
                      </a:cubicBezTo>
                      <a:cubicBezTo>
                        <a:pt x="346" y="3377"/>
                        <a:pt x="177" y="3382"/>
                        <a:pt x="128" y="3375"/>
                      </a:cubicBezTo>
                      <a:lnTo>
                        <a:pt x="87" y="3336"/>
                      </a:lnTo>
                      <a:lnTo>
                        <a:pt x="68" y="3285"/>
                      </a:lnTo>
                      <a:cubicBezTo>
                        <a:pt x="64" y="2983"/>
                        <a:pt x="63" y="1925"/>
                        <a:pt x="63" y="1525"/>
                      </a:cubicBezTo>
                      <a:lnTo>
                        <a:pt x="68" y="885"/>
                      </a:lnTo>
                      <a:lnTo>
                        <a:pt x="84" y="851"/>
                      </a:lnTo>
                      <a:lnTo>
                        <a:pt x="120" y="832"/>
                      </a:lnTo>
                      <a:lnTo>
                        <a:pt x="405" y="825"/>
                      </a:lnTo>
                      <a:lnTo>
                        <a:pt x="405" y="765"/>
                      </a:lnTo>
                      <a:lnTo>
                        <a:pt x="203" y="765"/>
                      </a:lnTo>
                      <a:lnTo>
                        <a:pt x="150" y="752"/>
                      </a:lnTo>
                      <a:lnTo>
                        <a:pt x="105" y="728"/>
                      </a:lnTo>
                      <a:lnTo>
                        <a:pt x="75" y="705"/>
                      </a:lnTo>
                      <a:lnTo>
                        <a:pt x="60" y="645"/>
                      </a:lnTo>
                      <a:lnTo>
                        <a:pt x="81" y="316"/>
                      </a:lnTo>
                      <a:lnTo>
                        <a:pt x="81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040080" y="4680"/>
                  <a:ext cx="297000" cy="6838920"/>
                </a:xfrm>
                <a:custGeom>
                  <a:avLst/>
                  <a:gdLst/>
                  <a:ahLst/>
                  <a:rect l="l" t="t" r="r" b="b"/>
                  <a:pathLst>
                    <a:path w="187" h="4323">
                      <a:moveTo>
                        <a:pt x="142" y="0"/>
                      </a:moveTo>
                      <a:lnTo>
                        <a:pt x="157" y="658"/>
                      </a:lnTo>
                      <a:lnTo>
                        <a:pt x="142" y="733"/>
                      </a:lnTo>
                      <a:lnTo>
                        <a:pt x="90" y="763"/>
                      </a:lnTo>
                      <a:lnTo>
                        <a:pt x="53" y="792"/>
                      </a:lnTo>
                      <a:lnTo>
                        <a:pt x="83" y="830"/>
                      </a:lnTo>
                      <a:lnTo>
                        <a:pt x="127" y="837"/>
                      </a:lnTo>
                      <a:lnTo>
                        <a:pt x="157" y="875"/>
                      </a:lnTo>
                      <a:lnTo>
                        <a:pt x="157" y="1152"/>
                      </a:lnTo>
                      <a:lnTo>
                        <a:pt x="135" y="1466"/>
                      </a:lnTo>
                      <a:lnTo>
                        <a:pt x="135" y="2573"/>
                      </a:lnTo>
                      <a:lnTo>
                        <a:pt x="165" y="3037"/>
                      </a:lnTo>
                      <a:lnTo>
                        <a:pt x="180" y="3298"/>
                      </a:lnTo>
                      <a:lnTo>
                        <a:pt x="142" y="3418"/>
                      </a:lnTo>
                      <a:lnTo>
                        <a:pt x="150" y="3463"/>
                      </a:lnTo>
                      <a:lnTo>
                        <a:pt x="172" y="3523"/>
                      </a:lnTo>
                      <a:lnTo>
                        <a:pt x="187" y="3807"/>
                      </a:lnTo>
                      <a:lnTo>
                        <a:pt x="187" y="4323"/>
                      </a:lnTo>
                      <a:lnTo>
                        <a:pt x="120" y="4316"/>
                      </a:lnTo>
                      <a:lnTo>
                        <a:pt x="105" y="3605"/>
                      </a:lnTo>
                      <a:lnTo>
                        <a:pt x="68" y="3463"/>
                      </a:lnTo>
                      <a:lnTo>
                        <a:pt x="83" y="3381"/>
                      </a:lnTo>
                      <a:lnTo>
                        <a:pt x="127" y="3313"/>
                      </a:lnTo>
                      <a:lnTo>
                        <a:pt x="98" y="3081"/>
                      </a:lnTo>
                      <a:lnTo>
                        <a:pt x="83" y="2573"/>
                      </a:lnTo>
                      <a:lnTo>
                        <a:pt x="83" y="1825"/>
                      </a:lnTo>
                      <a:lnTo>
                        <a:pt x="75" y="1264"/>
                      </a:lnTo>
                      <a:lnTo>
                        <a:pt x="83" y="950"/>
                      </a:lnTo>
                      <a:lnTo>
                        <a:pt x="38" y="852"/>
                      </a:lnTo>
                      <a:lnTo>
                        <a:pt x="0" y="807"/>
                      </a:lnTo>
                      <a:lnTo>
                        <a:pt x="75" y="718"/>
                      </a:lnTo>
                      <a:lnTo>
                        <a:pt x="105" y="605"/>
                      </a:lnTo>
                      <a:lnTo>
                        <a:pt x="90" y="119"/>
                      </a:lnTo>
                      <a:lnTo>
                        <a:pt x="75" y="7"/>
                      </a:lnTo>
                      <a:lnTo>
                        <a:pt x="142" y="0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4648320" y="1806120"/>
                <a:ext cx="3003120" cy="2403360"/>
                <a:chOff x="4648320" y="1806120"/>
                <a:chExt cx="3003120" cy="2403360"/>
              </a:xfrm>
            </p:grpSpPr>
            <p:sp>
              <p:nvSpPr>
                <p:cNvPr id="446" name=""/>
                <p:cNvSpPr/>
                <p:nvPr/>
              </p:nvSpPr>
              <p:spPr>
                <a:xfrm flipH="1" rot="21429000">
                  <a:off x="4688640" y="224064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20854800">
                  <a:off x="6329160" y="1910880"/>
                  <a:ext cx="1156680" cy="166212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834520" y="2301120"/>
                  <a:ext cx="776520" cy="190836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9" name=""/>
              <p:cNvSpPr/>
              <p:nvPr/>
            </p:nvSpPr>
            <p:spPr>
              <a:xfrm flipH="1" rot="21429000">
                <a:off x="7746840" y="1052280"/>
                <a:ext cx="787320" cy="113220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793000" y="915840"/>
                <a:ext cx="343080" cy="579600"/>
              </a:xfrm>
              <a:custGeom>
                <a:avLst/>
                <a:gdLst/>
                <a:ahLst/>
                <a:rect l="l" t="t" r="r" b="b"/>
                <a:pathLst>
                  <a:path w="216" h="365">
                    <a:moveTo>
                      <a:pt x="39" y="8"/>
                    </a:moveTo>
                    <a:cubicBezTo>
                      <a:pt x="74" y="1"/>
                      <a:pt x="183" y="0"/>
                      <a:pt x="213" y="23"/>
                    </a:cubicBezTo>
                    <a:lnTo>
                      <a:pt x="216" y="146"/>
                    </a:lnTo>
                    <a:cubicBezTo>
                      <a:pt x="195" y="153"/>
                      <a:pt x="108" y="76"/>
                      <a:pt x="84" y="66"/>
                    </a:cubicBezTo>
                    <a:cubicBezTo>
                      <a:pt x="60" y="56"/>
                      <a:pt x="58" y="72"/>
                      <a:pt x="72" y="85"/>
                    </a:cubicBezTo>
                    <a:cubicBezTo>
                      <a:pt x="86" y="99"/>
                      <a:pt x="146" y="129"/>
                      <a:pt x="169" y="147"/>
                    </a:cubicBezTo>
                    <a:cubicBezTo>
                      <a:pt x="192" y="165"/>
                      <a:pt x="205" y="158"/>
                      <a:pt x="213" y="194"/>
                    </a:cubicBezTo>
                    <a:lnTo>
                      <a:pt x="216" y="365"/>
                    </a:lnTo>
                    <a:cubicBezTo>
                      <a:pt x="188" y="365"/>
                      <a:pt x="81" y="242"/>
                      <a:pt x="45" y="192"/>
                    </a:cubicBezTo>
                    <a:cubicBezTo>
                      <a:pt x="9" y="142"/>
                      <a:pt x="2" y="98"/>
                      <a:pt x="1" y="68"/>
                    </a:cubicBezTo>
                    <a:cubicBezTo>
                      <a:pt x="0" y="37"/>
                      <a:pt x="3" y="16"/>
                      <a:pt x="39" y="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526240" y="1093680"/>
                <a:ext cx="530280" cy="130032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6887520" y="4248000"/>
                <a:ext cx="2044800" cy="1636560"/>
                <a:chOff x="6887520" y="4248000"/>
                <a:chExt cx="2044800" cy="1636560"/>
              </a:xfrm>
            </p:grpSpPr>
            <p:sp>
              <p:nvSpPr>
                <p:cNvPr id="453" name=""/>
                <p:cNvSpPr/>
                <p:nvPr/>
              </p:nvSpPr>
              <p:spPr>
                <a:xfrm flipH="1" rot="21429000">
                  <a:off x="6915240" y="454392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20854800">
                  <a:off x="8031960" y="4319280"/>
                  <a:ext cx="787680" cy="11318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695000" y="4584960"/>
                  <a:ext cx="528840" cy="129960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321640" y="5472000"/>
                <a:ext cx="1585080" cy="1267920"/>
                <a:chOff x="2321640" y="5472000"/>
                <a:chExt cx="1585080" cy="1267920"/>
              </a:xfrm>
            </p:grpSpPr>
            <p:sp>
              <p:nvSpPr>
                <p:cNvPr id="457" name=""/>
                <p:cNvSpPr/>
                <p:nvPr/>
              </p:nvSpPr>
              <p:spPr>
                <a:xfrm flipH="1" rot="21429000">
                  <a:off x="2342520" y="5700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rot="20854800">
                  <a:off x="3209040" y="552744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947680" y="573300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 rot="20854800">
                <a:off x="1295280" y="499104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955440" y="5325840"/>
                <a:ext cx="56052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141200" y="4684680"/>
                <a:ext cx="1157400" cy="393480"/>
              </a:xfrm>
              <a:custGeom>
                <a:avLst/>
                <a:gdLst/>
                <a:ahLst/>
                <a:rect l="l" t="t" r="r" b="b"/>
                <a:pathLst>
                  <a:path w="2020" h="688">
                    <a:moveTo>
                      <a:pt x="96" y="464"/>
                    </a:moveTo>
                    <a:cubicBezTo>
                      <a:pt x="0" y="416"/>
                      <a:pt x="48" y="408"/>
                      <a:pt x="48" y="368"/>
                    </a:cubicBezTo>
                    <a:cubicBezTo>
                      <a:pt x="48" y="328"/>
                      <a:pt x="40" y="280"/>
                      <a:pt x="96" y="224"/>
                    </a:cubicBezTo>
                    <a:cubicBezTo>
                      <a:pt x="152" y="168"/>
                      <a:pt x="240" y="64"/>
                      <a:pt x="384" y="32"/>
                    </a:cubicBezTo>
                    <a:cubicBezTo>
                      <a:pt x="528" y="0"/>
                      <a:pt x="760" y="0"/>
                      <a:pt x="960" y="32"/>
                    </a:cubicBezTo>
                    <a:cubicBezTo>
                      <a:pt x="1160" y="64"/>
                      <a:pt x="1424" y="160"/>
                      <a:pt x="1584" y="224"/>
                    </a:cubicBezTo>
                    <a:cubicBezTo>
                      <a:pt x="1744" y="288"/>
                      <a:pt x="1850" y="363"/>
                      <a:pt x="1920" y="416"/>
                    </a:cubicBezTo>
                    <a:cubicBezTo>
                      <a:pt x="1990" y="469"/>
                      <a:pt x="2020" y="520"/>
                      <a:pt x="2004" y="544"/>
                    </a:cubicBezTo>
                    <a:cubicBezTo>
                      <a:pt x="1988" y="568"/>
                      <a:pt x="1910" y="573"/>
                      <a:pt x="1824" y="560"/>
                    </a:cubicBezTo>
                    <a:cubicBezTo>
                      <a:pt x="1738" y="547"/>
                      <a:pt x="1632" y="504"/>
                      <a:pt x="1488" y="464"/>
                    </a:cubicBezTo>
                    <a:cubicBezTo>
                      <a:pt x="1344" y="424"/>
                      <a:pt x="1128" y="344"/>
                      <a:pt x="960" y="320"/>
                    </a:cubicBezTo>
                    <a:cubicBezTo>
                      <a:pt x="792" y="296"/>
                      <a:pt x="584" y="312"/>
                      <a:pt x="480" y="320"/>
                    </a:cubicBezTo>
                    <a:cubicBezTo>
                      <a:pt x="376" y="328"/>
                      <a:pt x="360" y="352"/>
                      <a:pt x="336" y="368"/>
                    </a:cubicBezTo>
                    <a:cubicBezTo>
                      <a:pt x="312" y="384"/>
                      <a:pt x="304" y="416"/>
                      <a:pt x="336" y="416"/>
                    </a:cubicBezTo>
                    <a:cubicBezTo>
                      <a:pt x="368" y="416"/>
                      <a:pt x="424" y="376"/>
                      <a:pt x="528" y="368"/>
                    </a:cubicBezTo>
                    <a:cubicBezTo>
                      <a:pt x="632" y="360"/>
                      <a:pt x="784" y="336"/>
                      <a:pt x="960" y="368"/>
                    </a:cubicBezTo>
                    <a:cubicBezTo>
                      <a:pt x="1136" y="400"/>
                      <a:pt x="1472" y="520"/>
                      <a:pt x="1584" y="560"/>
                    </a:cubicBezTo>
                    <a:cubicBezTo>
                      <a:pt x="1696" y="600"/>
                      <a:pt x="1664" y="592"/>
                      <a:pt x="1632" y="608"/>
                    </a:cubicBezTo>
                    <a:cubicBezTo>
                      <a:pt x="1600" y="624"/>
                      <a:pt x="1560" y="648"/>
                      <a:pt x="1392" y="656"/>
                    </a:cubicBezTo>
                    <a:cubicBezTo>
                      <a:pt x="1224" y="664"/>
                      <a:pt x="840" y="688"/>
                      <a:pt x="624" y="656"/>
                    </a:cubicBezTo>
                    <a:cubicBezTo>
                      <a:pt x="408" y="624"/>
                      <a:pt x="192" y="512"/>
                      <a:pt x="96" y="46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-3240" y="5208480"/>
                <a:ext cx="852480" cy="982800"/>
              </a:xfrm>
              <a:custGeom>
                <a:avLst/>
                <a:gdLst/>
                <a:ahLst/>
                <a:rect l="l" t="t" r="r" b="b"/>
                <a:pathLst>
                  <a:path w="537" h="619">
                    <a:moveTo>
                      <a:pt x="497" y="43"/>
                    </a:moveTo>
                    <a:cubicBezTo>
                      <a:pt x="459" y="35"/>
                      <a:pt x="398" y="0"/>
                      <a:pt x="315" y="58"/>
                    </a:cubicBezTo>
                    <a:cubicBezTo>
                      <a:pt x="232" y="116"/>
                      <a:pt x="52" y="311"/>
                      <a:pt x="0" y="388"/>
                    </a:cubicBezTo>
                    <a:lnTo>
                      <a:pt x="3" y="520"/>
                    </a:lnTo>
                    <a:cubicBezTo>
                      <a:pt x="23" y="520"/>
                      <a:pt x="69" y="441"/>
                      <a:pt x="119" y="387"/>
                    </a:cubicBezTo>
                    <a:cubicBezTo>
                      <a:pt x="169" y="333"/>
                      <a:pt x="248" y="243"/>
                      <a:pt x="302" y="197"/>
                    </a:cubicBezTo>
                    <a:cubicBezTo>
                      <a:pt x="357" y="150"/>
                      <a:pt x="421" y="116"/>
                      <a:pt x="447" y="104"/>
                    </a:cubicBezTo>
                    <a:cubicBezTo>
                      <a:pt x="473" y="92"/>
                      <a:pt x="476" y="110"/>
                      <a:pt x="460" y="124"/>
                    </a:cubicBezTo>
                    <a:cubicBezTo>
                      <a:pt x="446" y="140"/>
                      <a:pt x="396" y="158"/>
                      <a:pt x="357" y="191"/>
                    </a:cubicBezTo>
                    <a:cubicBezTo>
                      <a:pt x="317" y="224"/>
                      <a:pt x="280" y="260"/>
                      <a:pt x="221" y="322"/>
                    </a:cubicBezTo>
                    <a:cubicBezTo>
                      <a:pt x="162" y="384"/>
                      <a:pt x="37" y="513"/>
                      <a:pt x="0" y="562"/>
                    </a:cubicBezTo>
                    <a:lnTo>
                      <a:pt x="0" y="619"/>
                    </a:lnTo>
                    <a:cubicBezTo>
                      <a:pt x="44" y="601"/>
                      <a:pt x="183" y="518"/>
                      <a:pt x="264" y="455"/>
                    </a:cubicBezTo>
                    <a:cubicBezTo>
                      <a:pt x="345" y="392"/>
                      <a:pt x="443" y="296"/>
                      <a:pt x="488" y="238"/>
                    </a:cubicBezTo>
                    <a:cubicBezTo>
                      <a:pt x="534" y="180"/>
                      <a:pt x="534" y="138"/>
                      <a:pt x="536" y="106"/>
                    </a:cubicBezTo>
                    <a:cubicBezTo>
                      <a:pt x="537" y="74"/>
                      <a:pt x="533" y="51"/>
                      <a:pt x="497" y="43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-3240" y="4867200"/>
                <a:ext cx="803160" cy="384120"/>
              </a:xfrm>
              <a:custGeom>
                <a:avLst/>
                <a:gdLst/>
                <a:ahLst/>
                <a:rect l="l" t="t" r="r" b="b"/>
                <a:pathLst>
                  <a:path w="506" h="242">
                    <a:moveTo>
                      <a:pt x="469" y="200"/>
                    </a:moveTo>
                    <a:cubicBezTo>
                      <a:pt x="506" y="188"/>
                      <a:pt x="490" y="182"/>
                      <a:pt x="492" y="168"/>
                    </a:cubicBezTo>
                    <a:cubicBezTo>
                      <a:pt x="494" y="155"/>
                      <a:pt x="499" y="138"/>
                      <a:pt x="481" y="114"/>
                    </a:cubicBezTo>
                    <a:cubicBezTo>
                      <a:pt x="465" y="92"/>
                      <a:pt x="438" y="50"/>
                      <a:pt x="389" y="31"/>
                    </a:cubicBezTo>
                    <a:cubicBezTo>
                      <a:pt x="339" y="12"/>
                      <a:pt x="248" y="2"/>
                      <a:pt x="184" y="1"/>
                    </a:cubicBezTo>
                    <a:cubicBezTo>
                      <a:pt x="120" y="0"/>
                      <a:pt x="34" y="5"/>
                      <a:pt x="3" y="24"/>
                    </a:cubicBezTo>
                    <a:lnTo>
                      <a:pt x="0" y="114"/>
                    </a:lnTo>
                    <a:cubicBezTo>
                      <a:pt x="28" y="127"/>
                      <a:pt x="112" y="101"/>
                      <a:pt x="169" y="103"/>
                    </a:cubicBezTo>
                    <a:cubicBezTo>
                      <a:pt x="226" y="105"/>
                      <a:pt x="303" y="120"/>
                      <a:pt x="340" y="129"/>
                    </a:cubicBezTo>
                    <a:cubicBezTo>
                      <a:pt x="376" y="137"/>
                      <a:pt x="381" y="146"/>
                      <a:pt x="389" y="153"/>
                    </a:cubicBezTo>
                    <a:cubicBezTo>
                      <a:pt x="396" y="160"/>
                      <a:pt x="397" y="172"/>
                      <a:pt x="386" y="170"/>
                    </a:cubicBezTo>
                    <a:cubicBezTo>
                      <a:pt x="374" y="168"/>
                      <a:pt x="357" y="151"/>
                      <a:pt x="319" y="143"/>
                    </a:cubicBezTo>
                    <a:cubicBezTo>
                      <a:pt x="283" y="135"/>
                      <a:pt x="219" y="120"/>
                      <a:pt x="166" y="120"/>
                    </a:cubicBezTo>
                    <a:cubicBezTo>
                      <a:pt x="113" y="120"/>
                      <a:pt x="30" y="130"/>
                      <a:pt x="3" y="144"/>
                    </a:cubicBezTo>
                    <a:lnTo>
                      <a:pt x="6" y="204"/>
                    </a:lnTo>
                    <a:cubicBezTo>
                      <a:pt x="51" y="220"/>
                      <a:pt x="194" y="242"/>
                      <a:pt x="271" y="241"/>
                    </a:cubicBezTo>
                    <a:cubicBezTo>
                      <a:pt x="348" y="240"/>
                      <a:pt x="433" y="212"/>
                      <a:pt x="469" y="20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20854800">
                <a:off x="1284120" y="39600"/>
                <a:ext cx="836640" cy="120024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944640" y="374400"/>
                <a:ext cx="560160" cy="1378080"/>
              </a:xfrm>
              <a:custGeom>
                <a:avLst/>
                <a:gdLst/>
                <a:ahLst/>
                <a:rect l="l" t="t" r="r" b="b"/>
                <a:pathLst>
                  <a:path w="980" h="2408">
                    <a:moveTo>
                      <a:pt x="253" y="1432"/>
                    </a:moveTo>
                    <a:cubicBezTo>
                      <a:pt x="184" y="1264"/>
                      <a:pt x="122" y="1070"/>
                      <a:pt x="82" y="881"/>
                    </a:cubicBezTo>
                    <a:cubicBezTo>
                      <a:pt x="42" y="692"/>
                      <a:pt x="0" y="433"/>
                      <a:pt x="12" y="296"/>
                    </a:cubicBezTo>
                    <a:cubicBezTo>
                      <a:pt x="24" y="159"/>
                      <a:pt x="84" y="96"/>
                      <a:pt x="156" y="56"/>
                    </a:cubicBezTo>
                    <a:cubicBezTo>
                      <a:pt x="228" y="16"/>
                      <a:pt x="364" y="0"/>
                      <a:pt x="444" y="56"/>
                    </a:cubicBezTo>
                    <a:cubicBezTo>
                      <a:pt x="524" y="112"/>
                      <a:pt x="564" y="216"/>
                      <a:pt x="636" y="392"/>
                    </a:cubicBezTo>
                    <a:cubicBezTo>
                      <a:pt x="708" y="568"/>
                      <a:pt x="820" y="840"/>
                      <a:pt x="876" y="1112"/>
                    </a:cubicBezTo>
                    <a:cubicBezTo>
                      <a:pt x="932" y="1384"/>
                      <a:pt x="964" y="1816"/>
                      <a:pt x="972" y="2024"/>
                    </a:cubicBezTo>
                    <a:cubicBezTo>
                      <a:pt x="980" y="2232"/>
                      <a:pt x="940" y="2312"/>
                      <a:pt x="924" y="2360"/>
                    </a:cubicBezTo>
                    <a:cubicBezTo>
                      <a:pt x="908" y="2408"/>
                      <a:pt x="892" y="2384"/>
                      <a:pt x="876" y="2312"/>
                    </a:cubicBezTo>
                    <a:cubicBezTo>
                      <a:pt x="860" y="2240"/>
                      <a:pt x="860" y="2096"/>
                      <a:pt x="828" y="1928"/>
                    </a:cubicBezTo>
                    <a:cubicBezTo>
                      <a:pt x="796" y="1760"/>
                      <a:pt x="756" y="1544"/>
                      <a:pt x="684" y="1304"/>
                    </a:cubicBezTo>
                    <a:cubicBezTo>
                      <a:pt x="612" y="1064"/>
                      <a:pt x="460" y="648"/>
                      <a:pt x="396" y="488"/>
                    </a:cubicBezTo>
                    <a:cubicBezTo>
                      <a:pt x="332" y="328"/>
                      <a:pt x="316" y="352"/>
                      <a:pt x="300" y="344"/>
                    </a:cubicBezTo>
                    <a:cubicBezTo>
                      <a:pt x="284" y="336"/>
                      <a:pt x="260" y="320"/>
                      <a:pt x="300" y="440"/>
                    </a:cubicBezTo>
                    <a:cubicBezTo>
                      <a:pt x="340" y="560"/>
                      <a:pt x="468" y="840"/>
                      <a:pt x="540" y="1064"/>
                    </a:cubicBezTo>
                    <a:cubicBezTo>
                      <a:pt x="612" y="1288"/>
                      <a:pt x="692" y="1584"/>
                      <a:pt x="732" y="1784"/>
                    </a:cubicBezTo>
                    <a:cubicBezTo>
                      <a:pt x="772" y="1984"/>
                      <a:pt x="780" y="2176"/>
                      <a:pt x="780" y="2264"/>
                    </a:cubicBezTo>
                    <a:cubicBezTo>
                      <a:pt x="780" y="2352"/>
                      <a:pt x="779" y="2375"/>
                      <a:pt x="732" y="2312"/>
                    </a:cubicBezTo>
                    <a:cubicBezTo>
                      <a:pt x="685" y="2249"/>
                      <a:pt x="576" y="2034"/>
                      <a:pt x="496" y="1887"/>
                    </a:cubicBezTo>
                    <a:cubicBezTo>
                      <a:pt x="416" y="1740"/>
                      <a:pt x="304" y="1527"/>
                      <a:pt x="253" y="1432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055520" y="4680"/>
                <a:ext cx="1397160" cy="120600"/>
              </a:xfrm>
              <a:custGeom>
                <a:avLst/>
                <a:gdLst/>
                <a:ahLst/>
                <a:rect l="l" t="t" r="r" b="b"/>
                <a:pathLst>
                  <a:path w="880" h="76">
                    <a:moveTo>
                      <a:pt x="83" y="0"/>
                    </a:moveTo>
                    <a:lnTo>
                      <a:pt x="776" y="0"/>
                    </a:lnTo>
                    <a:cubicBezTo>
                      <a:pt x="880" y="5"/>
                      <a:pt x="731" y="26"/>
                      <a:pt x="705" y="31"/>
                    </a:cubicBezTo>
                    <a:cubicBezTo>
                      <a:pt x="679" y="36"/>
                      <a:pt x="630" y="28"/>
                      <a:pt x="619" y="31"/>
                    </a:cubicBezTo>
                    <a:cubicBezTo>
                      <a:pt x="608" y="34"/>
                      <a:pt x="648" y="42"/>
                      <a:pt x="636" y="48"/>
                    </a:cubicBezTo>
                    <a:cubicBezTo>
                      <a:pt x="624" y="54"/>
                      <a:pt x="610" y="63"/>
                      <a:pt x="549" y="65"/>
                    </a:cubicBezTo>
                    <a:cubicBezTo>
                      <a:pt x="489" y="68"/>
                      <a:pt x="350" y="76"/>
                      <a:pt x="272" y="65"/>
                    </a:cubicBezTo>
                    <a:cubicBezTo>
                      <a:pt x="194" y="54"/>
                      <a:pt x="0" y="7"/>
                      <a:pt x="83" y="0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-25560" y="260280"/>
                <a:ext cx="863640" cy="1006560"/>
              </a:xfrm>
              <a:custGeom>
                <a:avLst/>
                <a:gdLst/>
                <a:ahLst/>
                <a:rect l="l" t="t" r="r" b="b"/>
                <a:pathLst>
                  <a:path w="544" h="634">
                    <a:moveTo>
                      <a:pt x="504" y="41"/>
                    </a:moveTo>
                    <a:cubicBezTo>
                      <a:pt x="466" y="33"/>
                      <a:pt x="403" y="0"/>
                      <a:pt x="322" y="56"/>
                    </a:cubicBezTo>
                    <a:cubicBezTo>
                      <a:pt x="241" y="112"/>
                      <a:pt x="68" y="302"/>
                      <a:pt x="17" y="379"/>
                    </a:cubicBezTo>
                    <a:lnTo>
                      <a:pt x="14" y="520"/>
                    </a:lnTo>
                    <a:cubicBezTo>
                      <a:pt x="32" y="521"/>
                      <a:pt x="77" y="439"/>
                      <a:pt x="126" y="385"/>
                    </a:cubicBezTo>
                    <a:cubicBezTo>
                      <a:pt x="175" y="331"/>
                      <a:pt x="255" y="241"/>
                      <a:pt x="309" y="195"/>
                    </a:cubicBezTo>
                    <a:cubicBezTo>
                      <a:pt x="364" y="148"/>
                      <a:pt x="428" y="114"/>
                      <a:pt x="454" y="102"/>
                    </a:cubicBezTo>
                    <a:cubicBezTo>
                      <a:pt x="480" y="90"/>
                      <a:pt x="483" y="108"/>
                      <a:pt x="467" y="122"/>
                    </a:cubicBezTo>
                    <a:cubicBezTo>
                      <a:pt x="453" y="138"/>
                      <a:pt x="403" y="156"/>
                      <a:pt x="364" y="189"/>
                    </a:cubicBezTo>
                    <a:cubicBezTo>
                      <a:pt x="324" y="222"/>
                      <a:pt x="283" y="263"/>
                      <a:pt x="228" y="320"/>
                    </a:cubicBezTo>
                    <a:cubicBezTo>
                      <a:pt x="175" y="375"/>
                      <a:pt x="76" y="487"/>
                      <a:pt x="41" y="527"/>
                    </a:cubicBezTo>
                    <a:cubicBezTo>
                      <a:pt x="6" y="567"/>
                      <a:pt x="21" y="542"/>
                      <a:pt x="17" y="559"/>
                    </a:cubicBezTo>
                    <a:cubicBezTo>
                      <a:pt x="13" y="576"/>
                      <a:pt x="10" y="622"/>
                      <a:pt x="14" y="628"/>
                    </a:cubicBezTo>
                    <a:cubicBezTo>
                      <a:pt x="18" y="634"/>
                      <a:pt x="0" y="627"/>
                      <a:pt x="43" y="598"/>
                    </a:cubicBezTo>
                    <a:cubicBezTo>
                      <a:pt x="86" y="569"/>
                      <a:pt x="195" y="514"/>
                      <a:pt x="271" y="453"/>
                    </a:cubicBezTo>
                    <a:cubicBezTo>
                      <a:pt x="345" y="392"/>
                      <a:pt x="450" y="294"/>
                      <a:pt x="495" y="236"/>
                    </a:cubicBezTo>
                    <a:cubicBezTo>
                      <a:pt x="541" y="178"/>
                      <a:pt x="541" y="136"/>
                      <a:pt x="543" y="104"/>
                    </a:cubicBezTo>
                    <a:cubicBezTo>
                      <a:pt x="544" y="72"/>
                      <a:pt x="540" y="49"/>
                      <a:pt x="504" y="41"/>
                    </a:cubicBezTo>
                    <a:close/>
                  </a:path>
                </a:pathLst>
              </a:custGeom>
              <a:solidFill>
                <a:srgbClr val="d5e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-3240" y="4680"/>
                <a:ext cx="792000" cy="295200"/>
              </a:xfrm>
              <a:custGeom>
                <a:avLst/>
                <a:gdLst/>
                <a:ahLst/>
                <a:rect l="l" t="t" r="r" b="b"/>
                <a:pathLst>
                  <a:path w="499" h="186">
                    <a:moveTo>
                      <a:pt x="462" y="144"/>
                    </a:moveTo>
                    <a:cubicBezTo>
                      <a:pt x="499" y="132"/>
                      <a:pt x="483" y="126"/>
                      <a:pt x="485" y="112"/>
                    </a:cubicBezTo>
                    <a:cubicBezTo>
                      <a:pt x="487" y="99"/>
                      <a:pt x="486" y="76"/>
                      <a:pt x="474" y="58"/>
                    </a:cubicBezTo>
                    <a:cubicBezTo>
                      <a:pt x="462" y="40"/>
                      <a:pt x="490" y="13"/>
                      <a:pt x="411" y="3"/>
                    </a:cubicBezTo>
                    <a:lnTo>
                      <a:pt x="0" y="0"/>
                    </a:lnTo>
                    <a:lnTo>
                      <a:pt x="3" y="60"/>
                    </a:lnTo>
                    <a:cubicBezTo>
                      <a:pt x="30" y="68"/>
                      <a:pt x="107" y="45"/>
                      <a:pt x="162" y="47"/>
                    </a:cubicBezTo>
                    <a:cubicBezTo>
                      <a:pt x="217" y="49"/>
                      <a:pt x="296" y="64"/>
                      <a:pt x="333" y="73"/>
                    </a:cubicBezTo>
                    <a:cubicBezTo>
                      <a:pt x="369" y="81"/>
                      <a:pt x="374" y="90"/>
                      <a:pt x="382" y="97"/>
                    </a:cubicBezTo>
                    <a:cubicBezTo>
                      <a:pt x="389" y="104"/>
                      <a:pt x="390" y="116"/>
                      <a:pt x="379" y="114"/>
                    </a:cubicBezTo>
                    <a:cubicBezTo>
                      <a:pt x="367" y="112"/>
                      <a:pt x="350" y="95"/>
                      <a:pt x="312" y="87"/>
                    </a:cubicBezTo>
                    <a:cubicBezTo>
                      <a:pt x="276" y="79"/>
                      <a:pt x="210" y="64"/>
                      <a:pt x="159" y="64"/>
                    </a:cubicBezTo>
                    <a:cubicBezTo>
                      <a:pt x="108" y="64"/>
                      <a:pt x="29" y="73"/>
                      <a:pt x="3" y="87"/>
                    </a:cubicBezTo>
                    <a:lnTo>
                      <a:pt x="3" y="150"/>
                    </a:lnTo>
                    <a:cubicBezTo>
                      <a:pt x="46" y="166"/>
                      <a:pt x="188" y="186"/>
                      <a:pt x="264" y="185"/>
                    </a:cubicBezTo>
                    <a:cubicBezTo>
                      <a:pt x="340" y="184"/>
                      <a:pt x="426" y="156"/>
                      <a:pt x="462" y="144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0" name=""/>
              <p:cNvGrpSpPr/>
              <p:nvPr/>
            </p:nvGrpSpPr>
            <p:grpSpPr>
              <a:xfrm>
                <a:off x="2332440" y="3868920"/>
                <a:ext cx="1585080" cy="1267920"/>
                <a:chOff x="2332440" y="3868920"/>
                <a:chExt cx="1585080" cy="1267920"/>
              </a:xfrm>
            </p:grpSpPr>
            <p:sp>
              <p:nvSpPr>
                <p:cNvPr id="471" name=""/>
                <p:cNvSpPr/>
                <p:nvPr/>
              </p:nvSpPr>
              <p:spPr>
                <a:xfrm flipH="1" rot="21429000">
                  <a:off x="2353320" y="409752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rot="20854800">
                  <a:off x="3219840" y="39243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958480" y="412992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2356560" y="92160"/>
                <a:ext cx="1585080" cy="1267920"/>
                <a:chOff x="2356560" y="92160"/>
                <a:chExt cx="1585080" cy="1267920"/>
              </a:xfrm>
            </p:grpSpPr>
            <p:sp>
              <p:nvSpPr>
                <p:cNvPr id="475" name=""/>
                <p:cNvSpPr/>
                <p:nvPr/>
              </p:nvSpPr>
              <p:spPr>
                <a:xfrm flipH="1" rot="21429000">
                  <a:off x="2377440" y="32076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rot="20854800">
                  <a:off x="3243960" y="147600"/>
                  <a:ext cx="610560" cy="87696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982600" y="353160"/>
                  <a:ext cx="409680" cy="100692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"/>
              <p:cNvSpPr/>
              <p:nvPr/>
            </p:nvSpPr>
            <p:spPr>
              <a:xfrm>
                <a:off x="4755960" y="5686200"/>
                <a:ext cx="1076400" cy="1171800"/>
              </a:xfrm>
              <a:custGeom>
                <a:avLst/>
                <a:gdLst/>
                <a:ahLst/>
                <a:rect l="l" t="t" r="r" b="b"/>
                <a:pathLst>
                  <a:path w="678" h="738">
                    <a:moveTo>
                      <a:pt x="577" y="17"/>
                    </a:moveTo>
                    <a:cubicBezTo>
                      <a:pt x="525" y="19"/>
                      <a:pt x="428" y="0"/>
                      <a:pt x="341" y="100"/>
                    </a:cubicBezTo>
                    <a:cubicBezTo>
                      <a:pt x="253" y="202"/>
                      <a:pt x="108" y="515"/>
                      <a:pt x="54" y="621"/>
                    </a:cubicBezTo>
                    <a:cubicBezTo>
                      <a:pt x="0" y="727"/>
                      <a:pt x="3" y="716"/>
                      <a:pt x="17" y="735"/>
                    </a:cubicBezTo>
                    <a:lnTo>
                      <a:pt x="140" y="738"/>
                    </a:lnTo>
                    <a:cubicBezTo>
                      <a:pt x="170" y="718"/>
                      <a:pt x="159" y="688"/>
                      <a:pt x="198" y="614"/>
                    </a:cubicBezTo>
                    <a:cubicBezTo>
                      <a:pt x="237" y="540"/>
                      <a:pt x="318" y="375"/>
                      <a:pt x="375" y="292"/>
                    </a:cubicBezTo>
                    <a:cubicBezTo>
                      <a:pt x="431" y="209"/>
                      <a:pt x="503" y="140"/>
                      <a:pt x="534" y="115"/>
                    </a:cubicBezTo>
                    <a:cubicBezTo>
                      <a:pt x="565" y="89"/>
                      <a:pt x="574" y="113"/>
                      <a:pt x="559" y="138"/>
                    </a:cubicBezTo>
                    <a:cubicBezTo>
                      <a:pt x="544" y="162"/>
                      <a:pt x="487" y="206"/>
                      <a:pt x="445" y="264"/>
                    </a:cubicBezTo>
                    <a:cubicBezTo>
                      <a:pt x="404" y="323"/>
                      <a:pt x="354" y="408"/>
                      <a:pt x="311" y="487"/>
                    </a:cubicBezTo>
                    <a:cubicBezTo>
                      <a:pt x="268" y="566"/>
                      <a:pt x="181" y="696"/>
                      <a:pt x="188" y="738"/>
                    </a:cubicBezTo>
                    <a:lnTo>
                      <a:pt x="353" y="738"/>
                    </a:lnTo>
                    <a:cubicBezTo>
                      <a:pt x="391" y="724"/>
                      <a:pt x="370" y="727"/>
                      <a:pt x="417" y="651"/>
                    </a:cubicBezTo>
                    <a:cubicBezTo>
                      <a:pt x="464" y="575"/>
                      <a:pt x="599" y="373"/>
                      <a:pt x="638" y="279"/>
                    </a:cubicBezTo>
                    <a:cubicBezTo>
                      <a:pt x="678" y="185"/>
                      <a:pt x="663" y="128"/>
                      <a:pt x="653" y="85"/>
                    </a:cubicBezTo>
                    <a:cubicBezTo>
                      <a:pt x="643" y="41"/>
                      <a:pt x="629" y="14"/>
                      <a:pt x="577" y="17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20854800">
                <a:off x="6339960" y="5365800"/>
                <a:ext cx="1157400" cy="1662120"/>
              </a:xfrm>
              <a:custGeom>
                <a:avLst/>
                <a:gdLst/>
                <a:ahLst/>
                <a:rect l="l" t="t" r="r" b="b"/>
                <a:pathLst>
                  <a:path w="1456" h="2088">
                    <a:moveTo>
                      <a:pt x="184" y="48"/>
                    </a:moveTo>
                    <a:cubicBezTo>
                      <a:pt x="288" y="48"/>
                      <a:pt x="480" y="0"/>
                      <a:pt x="664" y="192"/>
                    </a:cubicBezTo>
                    <a:cubicBezTo>
                      <a:pt x="848" y="384"/>
                      <a:pt x="1160" y="904"/>
                      <a:pt x="1288" y="1200"/>
                    </a:cubicBezTo>
                    <a:cubicBezTo>
                      <a:pt x="1416" y="1496"/>
                      <a:pt x="1416" y="1848"/>
                      <a:pt x="1432" y="1968"/>
                    </a:cubicBezTo>
                    <a:cubicBezTo>
                      <a:pt x="1448" y="2088"/>
                      <a:pt x="1456" y="2048"/>
                      <a:pt x="1384" y="1920"/>
                    </a:cubicBezTo>
                    <a:cubicBezTo>
                      <a:pt x="1312" y="1792"/>
                      <a:pt x="1128" y="1424"/>
                      <a:pt x="1000" y="1200"/>
                    </a:cubicBezTo>
                    <a:cubicBezTo>
                      <a:pt x="872" y="976"/>
                      <a:pt x="736" y="736"/>
                      <a:pt x="616" y="576"/>
                    </a:cubicBezTo>
                    <a:cubicBezTo>
                      <a:pt x="496" y="416"/>
                      <a:pt x="344" y="288"/>
                      <a:pt x="280" y="240"/>
                    </a:cubicBezTo>
                    <a:cubicBezTo>
                      <a:pt x="216" y="192"/>
                      <a:pt x="200" y="240"/>
                      <a:pt x="232" y="288"/>
                    </a:cubicBezTo>
                    <a:cubicBezTo>
                      <a:pt x="264" y="336"/>
                      <a:pt x="384" y="416"/>
                      <a:pt x="472" y="528"/>
                    </a:cubicBezTo>
                    <a:cubicBezTo>
                      <a:pt x="560" y="640"/>
                      <a:pt x="648" y="776"/>
                      <a:pt x="760" y="960"/>
                    </a:cubicBezTo>
                    <a:cubicBezTo>
                      <a:pt x="872" y="1144"/>
                      <a:pt x="1040" y="1456"/>
                      <a:pt x="1144" y="1632"/>
                    </a:cubicBezTo>
                    <a:cubicBezTo>
                      <a:pt x="1248" y="1808"/>
                      <a:pt x="1352" y="1952"/>
                      <a:pt x="1384" y="2016"/>
                    </a:cubicBezTo>
                    <a:cubicBezTo>
                      <a:pt x="1416" y="2080"/>
                      <a:pt x="1384" y="2048"/>
                      <a:pt x="1336" y="2016"/>
                    </a:cubicBezTo>
                    <a:cubicBezTo>
                      <a:pt x="1288" y="1984"/>
                      <a:pt x="1224" y="1944"/>
                      <a:pt x="1096" y="1824"/>
                    </a:cubicBezTo>
                    <a:cubicBezTo>
                      <a:pt x="968" y="1704"/>
                      <a:pt x="736" y="1504"/>
                      <a:pt x="568" y="1296"/>
                    </a:cubicBezTo>
                    <a:cubicBezTo>
                      <a:pt x="400" y="1088"/>
                      <a:pt x="176" y="760"/>
                      <a:pt x="88" y="576"/>
                    </a:cubicBezTo>
                    <a:cubicBezTo>
                      <a:pt x="0" y="392"/>
                      <a:pt x="24" y="280"/>
                      <a:pt x="40" y="192"/>
                    </a:cubicBezTo>
                    <a:cubicBezTo>
                      <a:pt x="56" y="104"/>
                      <a:pt x="80" y="48"/>
                      <a:pt x="184" y="48"/>
                    </a:cubicBez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846760" y="5756040"/>
                <a:ext cx="749160" cy="1152720"/>
              </a:xfrm>
              <a:custGeom>
                <a:avLst/>
                <a:gdLst/>
                <a:ahLst/>
                <a:rect l="l" t="t" r="r" b="b"/>
                <a:pathLst>
                  <a:path w="472" h="726">
                    <a:moveTo>
                      <a:pt x="116" y="694"/>
                    </a:moveTo>
                    <a:cubicBezTo>
                      <a:pt x="71" y="652"/>
                      <a:pt x="59" y="531"/>
                      <a:pt x="41" y="440"/>
                    </a:cubicBezTo>
                    <a:cubicBezTo>
                      <a:pt x="23" y="349"/>
                      <a:pt x="0" y="216"/>
                      <a:pt x="6" y="148"/>
                    </a:cubicBezTo>
                    <a:cubicBezTo>
                      <a:pt x="12" y="79"/>
                      <a:pt x="42" y="48"/>
                      <a:pt x="78" y="28"/>
                    </a:cubicBezTo>
                    <a:cubicBezTo>
                      <a:pt x="114" y="8"/>
                      <a:pt x="182" y="0"/>
                      <a:pt x="222" y="28"/>
                    </a:cubicBezTo>
                    <a:cubicBezTo>
                      <a:pt x="261" y="56"/>
                      <a:pt x="281" y="108"/>
                      <a:pt x="317" y="196"/>
                    </a:cubicBezTo>
                    <a:cubicBezTo>
                      <a:pt x="353" y="284"/>
                      <a:pt x="414" y="473"/>
                      <a:pt x="437" y="555"/>
                    </a:cubicBezTo>
                    <a:cubicBezTo>
                      <a:pt x="460" y="637"/>
                      <a:pt x="472" y="668"/>
                      <a:pt x="458" y="691"/>
                    </a:cubicBezTo>
                    <a:lnTo>
                      <a:pt x="350" y="694"/>
                    </a:lnTo>
                    <a:cubicBezTo>
                      <a:pt x="331" y="687"/>
                      <a:pt x="366" y="726"/>
                      <a:pt x="341" y="651"/>
                    </a:cubicBezTo>
                    <a:cubicBezTo>
                      <a:pt x="316" y="576"/>
                      <a:pt x="230" y="323"/>
                      <a:pt x="198" y="244"/>
                    </a:cubicBezTo>
                    <a:cubicBezTo>
                      <a:pt x="166" y="164"/>
                      <a:pt x="158" y="176"/>
                      <a:pt x="150" y="172"/>
                    </a:cubicBezTo>
                    <a:cubicBezTo>
                      <a:pt x="142" y="168"/>
                      <a:pt x="130" y="160"/>
                      <a:pt x="150" y="220"/>
                    </a:cubicBezTo>
                    <a:cubicBezTo>
                      <a:pt x="170" y="280"/>
                      <a:pt x="242" y="453"/>
                      <a:pt x="269" y="531"/>
                    </a:cubicBezTo>
                    <a:cubicBezTo>
                      <a:pt x="296" y="609"/>
                      <a:pt x="337" y="664"/>
                      <a:pt x="311" y="691"/>
                    </a:cubicBezTo>
                    <a:lnTo>
                      <a:pt x="116" y="694"/>
                    </a:lnTo>
                    <a:close/>
                  </a:path>
                </a:pathLst>
              </a:custGeom>
              <a:solidFill>
                <a:srgbClr val="d5e3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1" name=""/>
              <p:cNvGrpSpPr/>
              <p:nvPr/>
            </p:nvGrpSpPr>
            <p:grpSpPr>
              <a:xfrm>
                <a:off x="6258240" y="528480"/>
                <a:ext cx="2760120" cy="2088720"/>
                <a:chOff x="6258240" y="528480"/>
                <a:chExt cx="2760120" cy="2088720"/>
              </a:xfrm>
            </p:grpSpPr>
            <p:sp>
              <p:nvSpPr>
                <p:cNvPr id="482" name=""/>
                <p:cNvSpPr/>
                <p:nvPr/>
              </p:nvSpPr>
              <p:spPr>
                <a:xfrm rot="20854800">
                  <a:off x="7980480" y="845280"/>
                  <a:ext cx="864720" cy="124128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628040" y="1191960"/>
                  <a:ext cx="580320" cy="1425240"/>
                </a:xfrm>
                <a:custGeom>
                  <a:avLst/>
                  <a:gdLst/>
                  <a:ahLst/>
                  <a:rect l="l" t="t" r="r" b="b"/>
                  <a:pathLst>
                    <a:path w="980" h="2408">
                      <a:moveTo>
                        <a:pt x="253" y="1432"/>
                      </a:moveTo>
                      <a:cubicBezTo>
                        <a:pt x="184" y="1264"/>
                        <a:pt x="122" y="1070"/>
                        <a:pt x="82" y="881"/>
                      </a:cubicBezTo>
                      <a:cubicBezTo>
                        <a:pt x="42" y="692"/>
                        <a:pt x="0" y="433"/>
                        <a:pt x="12" y="296"/>
                      </a:cubicBezTo>
                      <a:cubicBezTo>
                        <a:pt x="24" y="159"/>
                        <a:pt x="84" y="96"/>
                        <a:pt x="156" y="56"/>
                      </a:cubicBezTo>
                      <a:cubicBezTo>
                        <a:pt x="228" y="16"/>
                        <a:pt x="364" y="0"/>
                        <a:pt x="444" y="56"/>
                      </a:cubicBezTo>
                      <a:cubicBezTo>
                        <a:pt x="524" y="112"/>
                        <a:pt x="564" y="216"/>
                        <a:pt x="636" y="392"/>
                      </a:cubicBezTo>
                      <a:cubicBezTo>
                        <a:pt x="708" y="568"/>
                        <a:pt x="820" y="840"/>
                        <a:pt x="876" y="1112"/>
                      </a:cubicBezTo>
                      <a:cubicBezTo>
                        <a:pt x="932" y="1384"/>
                        <a:pt x="964" y="1816"/>
                        <a:pt x="972" y="2024"/>
                      </a:cubicBezTo>
                      <a:cubicBezTo>
                        <a:pt x="980" y="2232"/>
                        <a:pt x="940" y="2312"/>
                        <a:pt x="924" y="2360"/>
                      </a:cubicBezTo>
                      <a:cubicBezTo>
                        <a:pt x="908" y="2408"/>
                        <a:pt x="892" y="2384"/>
                        <a:pt x="876" y="2312"/>
                      </a:cubicBezTo>
                      <a:cubicBezTo>
                        <a:pt x="860" y="2240"/>
                        <a:pt x="860" y="2096"/>
                        <a:pt x="828" y="1928"/>
                      </a:cubicBezTo>
                      <a:cubicBezTo>
                        <a:pt x="796" y="1760"/>
                        <a:pt x="756" y="1544"/>
                        <a:pt x="684" y="1304"/>
                      </a:cubicBezTo>
                      <a:cubicBezTo>
                        <a:pt x="612" y="1064"/>
                        <a:pt x="460" y="648"/>
                        <a:pt x="396" y="488"/>
                      </a:cubicBezTo>
                      <a:cubicBezTo>
                        <a:pt x="332" y="328"/>
                        <a:pt x="316" y="352"/>
                        <a:pt x="300" y="344"/>
                      </a:cubicBezTo>
                      <a:cubicBezTo>
                        <a:pt x="284" y="336"/>
                        <a:pt x="260" y="320"/>
                        <a:pt x="300" y="440"/>
                      </a:cubicBezTo>
                      <a:cubicBezTo>
                        <a:pt x="340" y="560"/>
                        <a:pt x="468" y="840"/>
                        <a:pt x="540" y="1064"/>
                      </a:cubicBezTo>
                      <a:cubicBezTo>
                        <a:pt x="612" y="1288"/>
                        <a:pt x="692" y="1584"/>
                        <a:pt x="732" y="1784"/>
                      </a:cubicBezTo>
                      <a:cubicBezTo>
                        <a:pt x="772" y="1984"/>
                        <a:pt x="780" y="2176"/>
                        <a:pt x="780" y="2264"/>
                      </a:cubicBezTo>
                      <a:cubicBezTo>
                        <a:pt x="780" y="2352"/>
                        <a:pt x="779" y="2375"/>
                        <a:pt x="732" y="2312"/>
                      </a:cubicBezTo>
                      <a:cubicBezTo>
                        <a:pt x="685" y="2249"/>
                        <a:pt x="576" y="2034"/>
                        <a:pt x="496" y="1887"/>
                      </a:cubicBezTo>
                      <a:cubicBezTo>
                        <a:pt x="416" y="1740"/>
                        <a:pt x="304" y="1527"/>
                        <a:pt x="253" y="1432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820280" y="52848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 rot="745200">
                  <a:off x="6576120" y="1030320"/>
                  <a:ext cx="864720" cy="1241640"/>
                </a:xfrm>
                <a:custGeom>
                  <a:avLst/>
                  <a:gdLst/>
                  <a:ahLst/>
                  <a:rect l="l" t="t" r="r" b="b"/>
                  <a:pathLst>
                    <a:path w="1456" h="2088">
                      <a:moveTo>
                        <a:pt x="184" y="48"/>
                      </a:moveTo>
                      <a:cubicBezTo>
                        <a:pt x="288" y="48"/>
                        <a:pt x="480" y="0"/>
                        <a:pt x="664" y="192"/>
                      </a:cubicBezTo>
                      <a:cubicBezTo>
                        <a:pt x="848" y="384"/>
                        <a:pt x="1160" y="904"/>
                        <a:pt x="1288" y="1200"/>
                      </a:cubicBezTo>
                      <a:cubicBezTo>
                        <a:pt x="1416" y="1496"/>
                        <a:pt x="1416" y="1848"/>
                        <a:pt x="1432" y="1968"/>
                      </a:cubicBezTo>
                      <a:cubicBezTo>
                        <a:pt x="1448" y="2088"/>
                        <a:pt x="1456" y="2048"/>
                        <a:pt x="1384" y="1920"/>
                      </a:cubicBezTo>
                      <a:cubicBezTo>
                        <a:pt x="1312" y="1792"/>
                        <a:pt x="1128" y="1424"/>
                        <a:pt x="1000" y="1200"/>
                      </a:cubicBezTo>
                      <a:cubicBezTo>
                        <a:pt x="872" y="976"/>
                        <a:pt x="736" y="736"/>
                        <a:pt x="616" y="576"/>
                      </a:cubicBezTo>
                      <a:cubicBezTo>
                        <a:pt x="496" y="416"/>
                        <a:pt x="344" y="288"/>
                        <a:pt x="280" y="240"/>
                      </a:cubicBezTo>
                      <a:cubicBezTo>
                        <a:pt x="216" y="192"/>
                        <a:pt x="200" y="240"/>
                        <a:pt x="232" y="288"/>
                      </a:cubicBezTo>
                      <a:cubicBezTo>
                        <a:pt x="264" y="336"/>
                        <a:pt x="384" y="416"/>
                        <a:pt x="472" y="528"/>
                      </a:cubicBezTo>
                      <a:cubicBezTo>
                        <a:pt x="560" y="640"/>
                        <a:pt x="648" y="776"/>
                        <a:pt x="760" y="960"/>
                      </a:cubicBezTo>
                      <a:cubicBezTo>
                        <a:pt x="872" y="1144"/>
                        <a:pt x="1040" y="1456"/>
                        <a:pt x="1144" y="1632"/>
                      </a:cubicBezTo>
                      <a:cubicBezTo>
                        <a:pt x="1248" y="1808"/>
                        <a:pt x="1352" y="1952"/>
                        <a:pt x="1384" y="2016"/>
                      </a:cubicBezTo>
                      <a:cubicBezTo>
                        <a:pt x="1416" y="2080"/>
                        <a:pt x="1384" y="2048"/>
                        <a:pt x="1336" y="2016"/>
                      </a:cubicBezTo>
                      <a:cubicBezTo>
                        <a:pt x="1288" y="1984"/>
                        <a:pt x="1224" y="1944"/>
                        <a:pt x="1096" y="1824"/>
                      </a:cubicBezTo>
                      <a:cubicBezTo>
                        <a:pt x="968" y="1704"/>
                        <a:pt x="736" y="1504"/>
                        <a:pt x="568" y="1296"/>
                      </a:cubicBezTo>
                      <a:cubicBezTo>
                        <a:pt x="400" y="1088"/>
                        <a:pt x="176" y="760"/>
                        <a:pt x="88" y="576"/>
                      </a:cubicBezTo>
                      <a:cubicBezTo>
                        <a:pt x="0" y="392"/>
                        <a:pt x="24" y="280"/>
                        <a:pt x="40" y="192"/>
                      </a:cubicBezTo>
                      <a:cubicBezTo>
                        <a:pt x="56" y="104"/>
                        <a:pt x="80" y="48"/>
                        <a:pt x="184" y="48"/>
                      </a:cubicBezTo>
                      <a:close/>
                    </a:path>
                  </a:pathLst>
                </a:custGeom>
                <a:solidFill>
                  <a:srgbClr val="d5e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H="1" rot="505800">
                  <a:off x="6281280" y="693000"/>
                  <a:ext cx="1198080" cy="406440"/>
                </a:xfrm>
                <a:custGeom>
                  <a:avLst/>
                  <a:gdLst/>
                  <a:ahLst/>
                  <a:rect l="l" t="t" r="r" b="b"/>
                  <a:pathLst>
                    <a:path w="2020" h="688">
                      <a:moveTo>
                        <a:pt x="96" y="464"/>
                      </a:moveTo>
                      <a:cubicBezTo>
                        <a:pt x="0" y="416"/>
                        <a:pt x="48" y="408"/>
                        <a:pt x="48" y="368"/>
                      </a:cubicBezTo>
                      <a:cubicBezTo>
                        <a:pt x="48" y="328"/>
                        <a:pt x="40" y="280"/>
                        <a:pt x="96" y="224"/>
                      </a:cubicBezTo>
                      <a:cubicBezTo>
                        <a:pt x="152" y="168"/>
                        <a:pt x="240" y="64"/>
                        <a:pt x="384" y="32"/>
                      </a:cubicBezTo>
                      <a:cubicBezTo>
                        <a:pt x="528" y="0"/>
                        <a:pt x="760" y="0"/>
                        <a:pt x="960" y="32"/>
                      </a:cubicBezTo>
                      <a:cubicBezTo>
                        <a:pt x="1160" y="64"/>
                        <a:pt x="1424" y="160"/>
                        <a:pt x="1584" y="224"/>
                      </a:cubicBezTo>
                      <a:cubicBezTo>
                        <a:pt x="1744" y="288"/>
                        <a:pt x="1850" y="363"/>
                        <a:pt x="1920" y="416"/>
                      </a:cubicBezTo>
                      <a:cubicBezTo>
                        <a:pt x="1990" y="469"/>
                        <a:pt x="2020" y="520"/>
                        <a:pt x="2004" y="544"/>
                      </a:cubicBezTo>
                      <a:cubicBezTo>
                        <a:pt x="1988" y="568"/>
                        <a:pt x="1910" y="573"/>
                        <a:pt x="1824" y="560"/>
                      </a:cubicBezTo>
                      <a:cubicBezTo>
                        <a:pt x="1738" y="547"/>
                        <a:pt x="1632" y="504"/>
                        <a:pt x="1488" y="464"/>
                      </a:cubicBezTo>
                      <a:cubicBezTo>
                        <a:pt x="1344" y="424"/>
                        <a:pt x="1128" y="344"/>
                        <a:pt x="960" y="320"/>
                      </a:cubicBezTo>
                      <a:cubicBezTo>
                        <a:pt x="792" y="296"/>
                        <a:pt x="584" y="312"/>
                        <a:pt x="480" y="320"/>
                      </a:cubicBezTo>
                      <a:cubicBezTo>
                        <a:pt x="376" y="328"/>
                        <a:pt x="360" y="352"/>
                        <a:pt x="336" y="368"/>
                      </a:cubicBezTo>
                      <a:cubicBezTo>
                        <a:pt x="312" y="384"/>
                        <a:pt x="304" y="416"/>
                        <a:pt x="336" y="416"/>
                      </a:cubicBezTo>
                      <a:cubicBezTo>
                        <a:pt x="368" y="416"/>
                        <a:pt x="424" y="376"/>
                        <a:pt x="528" y="368"/>
                      </a:cubicBezTo>
                      <a:cubicBezTo>
                        <a:pt x="632" y="360"/>
                        <a:pt x="784" y="336"/>
                        <a:pt x="960" y="368"/>
                      </a:cubicBezTo>
                      <a:cubicBezTo>
                        <a:pt x="1136" y="400"/>
                        <a:pt x="1472" y="520"/>
                        <a:pt x="1584" y="560"/>
                      </a:cubicBezTo>
                      <a:cubicBezTo>
                        <a:pt x="1696" y="600"/>
                        <a:pt x="1664" y="592"/>
                        <a:pt x="1632" y="608"/>
                      </a:cubicBezTo>
                      <a:cubicBezTo>
                        <a:pt x="1600" y="624"/>
                        <a:pt x="1560" y="648"/>
                        <a:pt x="1392" y="656"/>
                      </a:cubicBezTo>
                      <a:cubicBezTo>
                        <a:pt x="1224" y="664"/>
                        <a:pt x="840" y="688"/>
                        <a:pt x="624" y="656"/>
                      </a:cubicBezTo>
                      <a:cubicBezTo>
                        <a:pt x="408" y="624"/>
                        <a:pt x="192" y="512"/>
                        <a:pt x="96" y="464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236520" y="1080"/>
                <a:ext cx="331920" cy="6852240"/>
                <a:chOff x="236520" y="1080"/>
                <a:chExt cx="331920" cy="685224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236520" y="4680"/>
                  <a:ext cx="331920" cy="6848640"/>
                </a:xfrm>
                <a:custGeom>
                  <a:avLst/>
                  <a:gdLst/>
                  <a:ahLst/>
                  <a:rect l="l" t="t" r="r" b="b"/>
                  <a:pathLst>
                    <a:path w="209" h="4314">
                      <a:moveTo>
                        <a:pt x="14" y="4314"/>
                      </a:moveTo>
                      <a:cubicBezTo>
                        <a:pt x="11" y="4130"/>
                        <a:pt x="21" y="3515"/>
                        <a:pt x="19" y="3207"/>
                      </a:cubicBezTo>
                      <a:cubicBezTo>
                        <a:pt x="17" y="2899"/>
                        <a:pt x="5" y="2613"/>
                        <a:pt x="3" y="2467"/>
                      </a:cubicBezTo>
                      <a:cubicBezTo>
                        <a:pt x="0" y="2321"/>
                        <a:pt x="2" y="2360"/>
                        <a:pt x="3" y="2330"/>
                      </a:cubicBezTo>
                      <a:cubicBezTo>
                        <a:pt x="3" y="2300"/>
                        <a:pt x="7" y="2302"/>
                        <a:pt x="8" y="2288"/>
                      </a:cubicBezTo>
                      <a:cubicBezTo>
                        <a:pt x="10" y="2274"/>
                        <a:pt x="11" y="2260"/>
                        <a:pt x="10" y="2244"/>
                      </a:cubicBezTo>
                      <a:cubicBezTo>
                        <a:pt x="9" y="2228"/>
                        <a:pt x="4" y="2217"/>
                        <a:pt x="3" y="2193"/>
                      </a:cubicBezTo>
                      <a:cubicBezTo>
                        <a:pt x="1" y="2169"/>
                        <a:pt x="1" y="2159"/>
                        <a:pt x="3" y="2103"/>
                      </a:cubicBezTo>
                      <a:cubicBezTo>
                        <a:pt x="4" y="2046"/>
                        <a:pt x="11" y="1988"/>
                        <a:pt x="12" y="1849"/>
                      </a:cubicBezTo>
                      <a:cubicBezTo>
                        <a:pt x="13" y="1710"/>
                        <a:pt x="10" y="1578"/>
                        <a:pt x="10" y="1270"/>
                      </a:cubicBezTo>
                      <a:cubicBezTo>
                        <a:pt x="10" y="961"/>
                        <a:pt x="8" y="211"/>
                        <a:pt x="12" y="0"/>
                      </a:cubicBezTo>
                      <a:lnTo>
                        <a:pt x="34" y="4"/>
                      </a:lnTo>
                      <a:cubicBezTo>
                        <a:pt x="38" y="175"/>
                        <a:pt x="37" y="711"/>
                        <a:pt x="37" y="1026"/>
                      </a:cubicBezTo>
                      <a:cubicBezTo>
                        <a:pt x="38" y="1342"/>
                        <a:pt x="38" y="1717"/>
                        <a:pt x="36" y="1897"/>
                      </a:cubicBezTo>
                      <a:cubicBezTo>
                        <a:pt x="39" y="1973"/>
                        <a:pt x="29" y="2051"/>
                        <a:pt x="25" y="2105"/>
                      </a:cubicBezTo>
                      <a:cubicBezTo>
                        <a:pt x="22" y="2164"/>
                        <a:pt x="20" y="2202"/>
                        <a:pt x="39" y="2212"/>
                      </a:cubicBezTo>
                      <a:cubicBezTo>
                        <a:pt x="57" y="2226"/>
                        <a:pt x="81" y="2231"/>
                        <a:pt x="102" y="2228"/>
                      </a:cubicBezTo>
                      <a:cubicBezTo>
                        <a:pt x="123" y="2231"/>
                        <a:pt x="150" y="2235"/>
                        <a:pt x="163" y="2228"/>
                      </a:cubicBezTo>
                      <a:cubicBezTo>
                        <a:pt x="176" y="2221"/>
                        <a:pt x="178" y="2209"/>
                        <a:pt x="181" y="2184"/>
                      </a:cubicBezTo>
                      <a:cubicBezTo>
                        <a:pt x="184" y="2159"/>
                        <a:pt x="180" y="2113"/>
                        <a:pt x="180" y="2077"/>
                      </a:cubicBezTo>
                      <a:cubicBezTo>
                        <a:pt x="179" y="2041"/>
                        <a:pt x="179" y="2012"/>
                        <a:pt x="178" y="1969"/>
                      </a:cubicBezTo>
                      <a:cubicBezTo>
                        <a:pt x="174" y="1922"/>
                        <a:pt x="175" y="2145"/>
                        <a:pt x="173" y="1817"/>
                      </a:cubicBezTo>
                      <a:cubicBezTo>
                        <a:pt x="171" y="1490"/>
                        <a:pt x="163" y="305"/>
                        <a:pt x="167" y="3"/>
                      </a:cubicBezTo>
                      <a:lnTo>
                        <a:pt x="202" y="6"/>
                      </a:lnTo>
                      <a:cubicBezTo>
                        <a:pt x="206" y="122"/>
                        <a:pt x="195" y="395"/>
                        <a:pt x="195" y="701"/>
                      </a:cubicBezTo>
                      <a:cubicBezTo>
                        <a:pt x="194" y="1006"/>
                        <a:pt x="196" y="1600"/>
                        <a:pt x="198" y="1841"/>
                      </a:cubicBezTo>
                      <a:cubicBezTo>
                        <a:pt x="197" y="1985"/>
                        <a:pt x="209" y="2095"/>
                        <a:pt x="209" y="2148"/>
                      </a:cubicBezTo>
                      <a:cubicBezTo>
                        <a:pt x="209" y="2201"/>
                        <a:pt x="203" y="2212"/>
                        <a:pt x="198" y="2264"/>
                      </a:cubicBezTo>
                      <a:cubicBezTo>
                        <a:pt x="208" y="2285"/>
                        <a:pt x="205" y="2289"/>
                        <a:pt x="206" y="2330"/>
                      </a:cubicBezTo>
                      <a:cubicBezTo>
                        <a:pt x="208" y="2371"/>
                        <a:pt x="209" y="2352"/>
                        <a:pt x="206" y="2512"/>
                      </a:cubicBezTo>
                      <a:cubicBezTo>
                        <a:pt x="204" y="2672"/>
                        <a:pt x="194" y="2987"/>
                        <a:pt x="193" y="3287"/>
                      </a:cubicBezTo>
                      <a:cubicBezTo>
                        <a:pt x="192" y="3587"/>
                        <a:pt x="200" y="4143"/>
                        <a:pt x="197" y="4314"/>
                      </a:cubicBezTo>
                      <a:lnTo>
                        <a:pt x="176" y="4313"/>
                      </a:lnTo>
                      <a:cubicBezTo>
                        <a:pt x="172" y="4225"/>
                        <a:pt x="176" y="3940"/>
                        <a:pt x="175" y="3786"/>
                      </a:cubicBezTo>
                      <a:cubicBezTo>
                        <a:pt x="174" y="3632"/>
                        <a:pt x="171" y="3568"/>
                        <a:pt x="171" y="3391"/>
                      </a:cubicBezTo>
                      <a:cubicBezTo>
                        <a:pt x="172" y="3213"/>
                        <a:pt x="176" y="2892"/>
                        <a:pt x="178" y="2720"/>
                      </a:cubicBezTo>
                      <a:cubicBezTo>
                        <a:pt x="180" y="2547"/>
                        <a:pt x="186" y="2428"/>
                        <a:pt x="185" y="2356"/>
                      </a:cubicBezTo>
                      <a:cubicBezTo>
                        <a:pt x="183" y="2332"/>
                        <a:pt x="187" y="2295"/>
                        <a:pt x="170" y="2288"/>
                      </a:cubicBezTo>
                      <a:cubicBezTo>
                        <a:pt x="158" y="2275"/>
                        <a:pt x="125" y="2307"/>
                        <a:pt x="103" y="2308"/>
                      </a:cubicBezTo>
                      <a:cubicBezTo>
                        <a:pt x="82" y="2309"/>
                        <a:pt x="54" y="2270"/>
                        <a:pt x="41" y="2296"/>
                      </a:cubicBezTo>
                      <a:cubicBezTo>
                        <a:pt x="27" y="2322"/>
                        <a:pt x="23" y="2357"/>
                        <a:pt x="23" y="2467"/>
                      </a:cubicBezTo>
                      <a:cubicBezTo>
                        <a:pt x="22" y="2577"/>
                        <a:pt x="35" y="2745"/>
                        <a:pt x="37" y="2955"/>
                      </a:cubicBezTo>
                      <a:cubicBezTo>
                        <a:pt x="40" y="3166"/>
                        <a:pt x="39" y="3503"/>
                        <a:pt x="39" y="3730"/>
                      </a:cubicBezTo>
                      <a:cubicBezTo>
                        <a:pt x="39" y="3957"/>
                        <a:pt x="41" y="4216"/>
                        <a:pt x="37" y="4313"/>
                      </a:cubicBezTo>
                      <a:lnTo>
                        <a:pt x="14" y="4314"/>
                      </a:ln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V="1">
                  <a:off x="409680" y="360"/>
                  <a:ext cx="74520" cy="3490920"/>
                </a:xfrm>
                <a:custGeom>
                  <a:avLst/>
                  <a:gdLst/>
                  <a:ahLst/>
                  <a:rect l="l" t="t" r="r" b="b"/>
                  <a:pathLst>
                    <a:path w="110" h="2131">
                      <a:moveTo>
                        <a:pt x="27" y="477"/>
                      </a:moveTo>
                      <a:cubicBezTo>
                        <a:pt x="24" y="266"/>
                        <a:pt x="26" y="283"/>
                        <a:pt x="23" y="217"/>
                      </a:cubicBezTo>
                      <a:cubicBezTo>
                        <a:pt x="20" y="151"/>
                        <a:pt x="14" y="112"/>
                        <a:pt x="11" y="81"/>
                      </a:cubicBezTo>
                      <a:cubicBezTo>
                        <a:pt x="8" y="50"/>
                        <a:pt x="0" y="42"/>
                        <a:pt x="3" y="29"/>
                      </a:cubicBezTo>
                      <a:cubicBezTo>
                        <a:pt x="6" y="16"/>
                        <a:pt x="18" y="9"/>
                        <a:pt x="31" y="5"/>
                      </a:cubicBezTo>
                      <a:cubicBezTo>
                        <a:pt x="44" y="1"/>
                        <a:pt x="71" y="0"/>
                        <a:pt x="83" y="5"/>
                      </a:cubicBezTo>
                      <a:cubicBezTo>
                        <a:pt x="95" y="10"/>
                        <a:pt x="99" y="12"/>
                        <a:pt x="103" y="33"/>
                      </a:cubicBezTo>
                      <a:cubicBezTo>
                        <a:pt x="107" y="54"/>
                        <a:pt x="110" y="77"/>
                        <a:pt x="107" y="133"/>
                      </a:cubicBezTo>
                      <a:cubicBezTo>
                        <a:pt x="104" y="189"/>
                        <a:pt x="90" y="249"/>
                        <a:pt x="87" y="369"/>
                      </a:cubicBezTo>
                      <a:cubicBezTo>
                        <a:pt x="84" y="489"/>
                        <a:pt x="88" y="646"/>
                        <a:pt x="87" y="853"/>
                      </a:cubicBezTo>
                      <a:cubicBezTo>
                        <a:pt x="86" y="1060"/>
                        <a:pt x="79" y="1414"/>
                        <a:pt x="79" y="1613"/>
                      </a:cubicBezTo>
                      <a:cubicBezTo>
                        <a:pt x="79" y="1812"/>
                        <a:pt x="87" y="1959"/>
                        <a:pt x="87" y="2045"/>
                      </a:cubicBezTo>
                      <a:cubicBezTo>
                        <a:pt x="87" y="2131"/>
                        <a:pt x="87" y="2115"/>
                        <a:pt x="79" y="2129"/>
                      </a:cubicBezTo>
                      <a:lnTo>
                        <a:pt x="39" y="2129"/>
                      </a:lnTo>
                      <a:cubicBezTo>
                        <a:pt x="32" y="2021"/>
                        <a:pt x="42" y="1757"/>
                        <a:pt x="39" y="1481"/>
                      </a:cubicBezTo>
                      <a:cubicBezTo>
                        <a:pt x="36" y="1205"/>
                        <a:pt x="30" y="688"/>
                        <a:pt x="27" y="477"/>
                      </a:cubicBezTo>
                      <a:close/>
                    </a:path>
                  </a:pathLst>
                </a:custGeom>
                <a:solidFill>
                  <a:srgbClr val="d5e3c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0" name=""/>
            <p:cNvSpPr/>
            <p:nvPr/>
          </p:nvSpPr>
          <p:spPr>
            <a:xfrm>
              <a:off x="1174680" y="3430440"/>
              <a:ext cx="7962840" cy="77760"/>
            </a:xfrm>
            <a:prstGeom prst="rect">
              <a:avLst/>
            </a:prstGeom>
            <a:solidFill>
              <a:srgbClr val="b2c2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79360" y="219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503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5032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25032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25032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2503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DC35-FBD0-4588-8655-419B1B94D9BE}" type="slidenum">
              <a:rPr b="0" lang="en-GB" sz="1400" spc="-1" strike="noStrike">
                <a:solidFill>
                  <a:srgbClr val="425032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5F1C-2EAD-444F-AE62-659537F44E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simpsons.ugo.com/images/simpsons-family/grandpa-simpson.jpg&amp;imgrefurl=http://simpsons.ugo.com/%3Fcur%3Dgrandpa-simpson&amp;h=267&amp;w=180&amp;sz=25&amp;hl=en&amp;start=7&amp;um=1&amp;tbnid=a35Ksn-rlO7LiM:&amp;tbnh=113&amp;tbnw=76&amp;prev=/images%3Fq%3Dgrandpa%2Bcartoon%26ndsp%3D18%26um%3D1%26hl%3Den%26sa%3DN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images.google.co.uk/imgres?imgurl=http://img.engadget.com/common/images/8425422554354176.JPG%3F0.007341879735361712&amp;imgrefurl=http://www.joystiq.com/2005/09/01/making-games-for-grandma/&amp;h=288&amp;w=225&amp;sz=36&amp;hl=en&amp;start=1&amp;um=1&amp;tbnid=jWGgNILMpZwLBM:&amp;tbnh=115&amp;tbnw=90&amp;prev=/images%3Fq%3Dgrandma%2Bcartoon%26ndsp%3D18%26um%3D1%26hl%3Den%26sa%3DN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snbcmedia2.msn.com/j/msnbc/Components/Photos/060820/060820_simpson_vmed_11a.widec.jpg&amp;imgrefurl=http://www.msnbc.msn.com/id/14735495/&amp;h=322&amp;w=298&amp;sz=21&amp;hl=en&amp;start=12&amp;um=1&amp;tbnid=RgCx5kYp6KdYaM:&amp;tbnh=118&amp;tbnw=109&amp;prev=/images%3Fq%3D%2Bcartoon%2Bfamily%2Bchinese%26um%3D1%26hl%3Den%26sa%3D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中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国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  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宋体"/>
              </a:rPr>
              <a:t>北京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</a:t>
            </a:r>
            <a:r>
              <a:rPr b="1" lang="en-GB" sz="6600" spc="-1" strike="noStrike">
                <a:solidFill>
                  <a:srgbClr val="ff3300"/>
                </a:solidFill>
                <a:latin typeface="Times New Roman"/>
                <a:ea typeface="宋体"/>
              </a:rPr>
              <a:t>Beijing</a:t>
            </a:r>
            <a:r>
              <a:rPr b="0" lang="en-GB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971640" y="105264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My name is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116000" y="2205000"/>
            <a:ext cx="5543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Wǒ jiào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我   叫   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476440" y="274680"/>
            <a:ext cx="4579920" cy="6394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中   国</a:t>
            </a:r>
            <a:br>
              <a:rPr sz="4800"/>
            </a:br>
            <a:r>
              <a:rPr b="0" lang="en-GB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Ch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Fam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268000" y="260280"/>
            <a:ext cx="6875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家  的  演  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   </a:t>
            </a:r>
            <a:r>
              <a:rPr b="0" lang="en-GB" sz="4400" spc="-1" strike="noStrike">
                <a:solidFill>
                  <a:srgbClr val="ff3300"/>
                </a:solidFill>
                <a:latin typeface="Times New Roman"/>
                <a:ea typeface="宋体"/>
              </a:rPr>
              <a:t>Change of Chinese fami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15145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一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百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年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前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about 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100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years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ag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514240" y="5084640"/>
            <a:ext cx="6095880" cy="13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3300"/>
              </a:solidFill>
              <a:latin typeface="Times New Roman"/>
              <a:ea typeface="宋体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6473880" cy="4352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1874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七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八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十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年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前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about 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7, 8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ecades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ag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5715000" cy="426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658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二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三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十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年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前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about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twenty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thirty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years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a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3564000" y="333360"/>
            <a:ext cx="3727440" cy="5035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现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在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n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3429000" y="609480"/>
            <a:ext cx="434340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Impact"/>
                <a:ea typeface="宋体"/>
              </a:rPr>
              <a:t>家人   </a:t>
            </a:r>
            <a:r>
              <a:rPr b="0" lang="en-GB" sz="4400" spc="-1" strike="noStrike">
                <a:solidFill>
                  <a:srgbClr val="996600"/>
                </a:solidFill>
                <a:latin typeface="Impact"/>
                <a:ea typeface="宋体"/>
              </a:rPr>
              <a:t>family members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23" name=""/>
          <p:cNvSpPr/>
          <p:nvPr/>
        </p:nvSpPr>
        <p:spPr>
          <a:xfrm>
            <a:off x="611280" y="1484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  <a:ea typeface="宋体"/>
              </a:rPr>
              <a:t>One husband and one wife with only one child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  <a:ea typeface="宋体"/>
              </a:rPr>
              <a:t>Young generation show respect to older generation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  <a:ea typeface="宋体"/>
              </a:rPr>
              <a:t>Family member is addressed by title instead of name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6600"/>
              </a:solidFill>
              <a:latin typeface="Impact"/>
              <a:ea typeface="宋体"/>
            </a:endParaRPr>
          </a:p>
        </p:txBody>
      </p:sp>
      <p:sp>
        <p:nvSpPr>
          <p:cNvPr id="626" name=""/>
          <p:cNvSpPr/>
          <p:nvPr/>
        </p:nvSpPr>
        <p:spPr>
          <a:xfrm>
            <a:off x="1332000" y="5654520"/>
            <a:ext cx="151272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695840" y="5753160"/>
            <a:ext cx="196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 rot="16200000">
            <a:off x="396720" y="1194840"/>
            <a:ext cx="4103640" cy="29541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1332000" y="4869000"/>
            <a:ext cx="208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ā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妈妈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 rot="16200000">
            <a:off x="4027320" y="1235880"/>
            <a:ext cx="4103640" cy="28720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4932360" y="4797360"/>
            <a:ext cx="208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爸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996600"/>
              </a:solidFill>
              <a:latin typeface="Impact"/>
              <a:ea typeface="宋体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 rot="16200000">
            <a:off x="218160" y="942120"/>
            <a:ext cx="3959280" cy="288432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 rot="16200000">
            <a:off x="3833640" y="926640"/>
            <a:ext cx="3961080" cy="291636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1042920" y="4581360"/>
            <a:ext cx="259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ē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哥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lder br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643280" y="4581360"/>
            <a:ext cx="2592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iěj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姐 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lder s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6600"/>
              </a:solidFill>
              <a:latin typeface="Impact"/>
              <a:ea typeface="宋体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539640" y="422280"/>
            <a:ext cx="6624720" cy="410544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684360" y="4653000"/>
            <a:ext cx="32400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ì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弟弟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nger br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695840" y="5753160"/>
            <a:ext cx="196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924360" y="4508640"/>
            <a:ext cx="3672000" cy="20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èim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妹 妹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nger s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907920"/>
            <a:ext cx="2711520" cy="388944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1187280" y="5013360"/>
            <a:ext cx="280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é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爷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ather’s 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981000"/>
            <a:ext cx="2808360" cy="374328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5292720" y="5013360"/>
            <a:ext cx="259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ăi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奶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ather’s 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an you remember who it is?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95280" y="4076640"/>
            <a:ext cx="6588000" cy="2246400"/>
            <a:chOff x="395280" y="4076640"/>
            <a:chExt cx="6588000" cy="2246400"/>
          </a:xfrm>
        </p:grpSpPr>
        <p:pic>
          <p:nvPicPr>
            <p:cNvPr id="648" name="" descr=""/>
            <p:cNvPicPr/>
            <p:nvPr/>
          </p:nvPicPr>
          <p:blipFill>
            <a:blip r:embed="rId1"/>
            <a:stretch/>
          </p:blipFill>
          <p:spPr>
            <a:xfrm rot="16200000">
              <a:off x="3299400" y="4442040"/>
              <a:ext cx="2158920" cy="15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" descr=""/>
            <p:cNvPicPr/>
            <p:nvPr/>
          </p:nvPicPr>
          <p:blipFill>
            <a:blip r:embed="rId2"/>
            <a:stretch/>
          </p:blipFill>
          <p:spPr>
            <a:xfrm rot="16200000">
              <a:off x="5107680" y="4434120"/>
              <a:ext cx="2160360" cy="159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3"/>
            <a:stretch/>
          </p:blipFill>
          <p:spPr>
            <a:xfrm>
              <a:off x="395280" y="4076640"/>
              <a:ext cx="2981160" cy="224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1" name=""/>
          <p:cNvGrpSpPr/>
          <p:nvPr/>
        </p:nvGrpSpPr>
        <p:grpSpPr>
          <a:xfrm>
            <a:off x="539640" y="1483920"/>
            <a:ext cx="6408360" cy="2160720"/>
            <a:chOff x="539640" y="1483920"/>
            <a:chExt cx="6408360" cy="2160720"/>
          </a:xfrm>
        </p:grpSpPr>
        <p:pic>
          <p:nvPicPr>
            <p:cNvPr id="652" name="" descr=""/>
            <p:cNvPicPr/>
            <p:nvPr/>
          </p:nvPicPr>
          <p:blipFill>
            <a:blip r:embed="rId4"/>
            <a:stretch/>
          </p:blipFill>
          <p:spPr>
            <a:xfrm>
              <a:off x="4021560" y="1564920"/>
              <a:ext cx="1342440" cy="20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5"/>
            <a:stretch/>
          </p:blipFill>
          <p:spPr>
            <a:xfrm>
              <a:off x="5502960" y="1564920"/>
              <a:ext cx="1445040" cy="20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" descr=""/>
            <p:cNvPicPr/>
            <p:nvPr/>
          </p:nvPicPr>
          <p:blipFill>
            <a:blip r:embed="rId6"/>
            <a:stretch/>
          </p:blipFill>
          <p:spPr>
            <a:xfrm rot="16200000">
              <a:off x="1809000" y="1843560"/>
              <a:ext cx="2160360" cy="144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" descr=""/>
            <p:cNvPicPr/>
            <p:nvPr/>
          </p:nvPicPr>
          <p:blipFill>
            <a:blip r:embed="rId7"/>
            <a:stretch/>
          </p:blipFill>
          <p:spPr>
            <a:xfrm rot="16200000">
              <a:off x="159120" y="1864440"/>
              <a:ext cx="2160360" cy="1399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755640" y="476280"/>
            <a:ext cx="5761080" cy="4608360"/>
          </a:xfrm>
          <a:prstGeom prst="cloudCallout">
            <a:avLst>
              <a:gd name="adj1" fmla="val 62398"/>
              <a:gd name="adj2" fmla="val 6422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476360" y="1341360"/>
            <a:ext cx="46800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I hav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ǒ yǒu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我   有  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068640"/>
            <a:ext cx="3367080" cy="364320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 rot="16200000">
            <a:off x="1008000" y="-711360"/>
            <a:ext cx="3671640" cy="5472000"/>
          </a:xfrm>
          <a:prstGeom prst="wedgeRoundRectCallout">
            <a:avLst>
              <a:gd name="adj1" fmla="val -87657"/>
              <a:gd name="adj2" fmla="val 5699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50920" y="836640"/>
            <a:ext cx="50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12727"/>
                </a:solidFill>
                <a:latin typeface="Times New Roman"/>
                <a:ea typeface="宋体"/>
              </a:rPr>
              <a:t>Example</a:t>
            </a:r>
            <a:r>
              <a:rPr b="0" lang="zh-CN" sz="2400" spc="-1" strike="noStrike">
                <a:solidFill>
                  <a:srgbClr val="c12727"/>
                </a:solidFill>
                <a:latin typeface="Times New Roman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12727"/>
                </a:solidFill>
                <a:latin typeface="Times New Roman"/>
                <a:ea typeface="宋体"/>
              </a:rPr>
              <a:t>I have mum, dad, elder brother and younger s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12727"/>
                </a:solidFill>
                <a:latin typeface="Times New Roman"/>
                <a:ea typeface="宋体"/>
              </a:rPr>
              <a:t>Wǒ yǒu māma, bàba, gēge hé mèim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12727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c12727"/>
                </a:solidFill>
                <a:latin typeface="Times New Roman"/>
                <a:ea typeface="宋体"/>
              </a:rPr>
              <a:t>我  有   妈妈，爸爸</a:t>
            </a:r>
            <a:r>
              <a:rPr b="0" lang="en-GB" sz="2400" spc="-1" strike="noStrike">
                <a:solidFill>
                  <a:srgbClr val="c12727"/>
                </a:solidFill>
                <a:latin typeface="Times New Roman"/>
                <a:ea typeface="宋体"/>
              </a:rPr>
              <a:t>, </a:t>
            </a:r>
            <a:r>
              <a:rPr b="0" lang="zh-CN" sz="2400" spc="-1" strike="noStrike">
                <a:solidFill>
                  <a:srgbClr val="c12727"/>
                </a:solidFill>
                <a:latin typeface="Times New Roman"/>
                <a:ea typeface="宋体"/>
              </a:rPr>
              <a:t>哥哥 和  妹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reate a family card game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457200" y="2376360"/>
          <a:ext cx="6635880" cy="3645000"/>
        </p:xfrm>
        <a:graphic>
          <a:graphicData uri="http://schemas.openxmlformats.org/drawingml/2006/table">
            <a:tbl>
              <a:tblPr/>
              <a:tblGrid>
                <a:gridCol w="2618280"/>
                <a:gridCol w="1804320"/>
                <a:gridCol w="2213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à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爸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ā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妈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lder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ē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哥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lder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jiěj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姐 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ounger br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ì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弟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ounger si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èime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妹 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ather’s 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éy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爷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ather’s m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ăin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奶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What have you learnt today?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Hello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What is your name? My name is …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amily member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Mum, dad, younger brother, older brother, younger sister, older sister, grandma, grandpa.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I have…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hinese family cultu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ransition spd="slow">
    <p:randomBa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Tahoma"/>
              </a:rPr>
              <a:t>How did you find the lesson?</a:t>
            </a: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ahoma"/>
              </a:rPr>
              <a:t>Good          </a:t>
            </a:r>
            <a:r>
              <a:rPr b="0" lang="en-GB" sz="3200" spc="-1" strike="noStrike">
                <a:solidFill>
                  <a:srgbClr val="333333"/>
                </a:solidFill>
                <a:latin typeface="Tahoma"/>
                <a:ea typeface="宋体"/>
              </a:rPr>
              <a:t>    </a:t>
            </a:r>
            <a:r>
              <a:rPr b="0" lang="en-GB" sz="3200" spc="-1" strike="noStrike">
                <a:solidFill>
                  <a:srgbClr val="333333"/>
                </a:solidFill>
                <a:latin typeface="Tahoma"/>
              </a:rPr>
              <a:t>h</a:t>
            </a:r>
            <a:r>
              <a:rPr b="0" lang="en-GB" sz="3200" spc="-1" strike="noStrike">
                <a:solidFill>
                  <a:srgbClr val="333333"/>
                </a:solidFill>
                <a:latin typeface="Tahoma"/>
                <a:ea typeface="Times New Roman"/>
              </a:rPr>
              <a:t>ăo     </a:t>
            </a:r>
            <a:r>
              <a:rPr b="0" lang="en-GB" sz="3200" spc="-1" strike="noStrike">
                <a:solidFill>
                  <a:srgbClr val="333333"/>
                </a:solidFill>
                <a:latin typeface="Tahoma"/>
                <a:ea typeface="宋体"/>
              </a:rPr>
              <a:t>               </a:t>
            </a:r>
            <a:r>
              <a:rPr b="0" lang="en-GB" sz="3200" spc="-1" strike="noStrike">
                <a:solidFill>
                  <a:srgbClr val="333333"/>
                </a:solidFill>
                <a:latin typeface="Tahoma"/>
                <a:ea typeface="Times New Roman"/>
              </a:rPr>
              <a:t> </a:t>
            </a:r>
            <a:r>
              <a:rPr b="0" lang="zh-CN" sz="3200" spc="-1" strike="noStrike">
                <a:solidFill>
                  <a:srgbClr val="333333"/>
                </a:solidFill>
                <a:latin typeface="Tahoma"/>
                <a:ea typeface="宋体"/>
              </a:rPr>
              <a:t>好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ahoma"/>
                <a:ea typeface="宋体"/>
              </a:rPr>
              <a:t>Very good       hěn </a:t>
            </a:r>
            <a:r>
              <a:rPr b="0" lang="en-GB" sz="3200" spc="-1" strike="noStrike">
                <a:solidFill>
                  <a:srgbClr val="333333"/>
                </a:solidFill>
                <a:latin typeface="Tahoma"/>
              </a:rPr>
              <a:t>h</a:t>
            </a:r>
            <a:r>
              <a:rPr b="0" lang="en-GB" sz="3200" spc="-1" strike="noStrike">
                <a:solidFill>
                  <a:srgbClr val="333333"/>
                </a:solidFill>
                <a:latin typeface="Tahoma"/>
                <a:ea typeface="Times New Roman"/>
              </a:rPr>
              <a:t>ăo</a:t>
            </a:r>
            <a:r>
              <a:rPr b="0" lang="en-GB" sz="3200" spc="-1" strike="noStrike">
                <a:solidFill>
                  <a:srgbClr val="333333"/>
                </a:solidFill>
                <a:latin typeface="Tahoma"/>
                <a:ea typeface="宋体"/>
              </a:rPr>
              <a:t>              </a:t>
            </a:r>
            <a:r>
              <a:rPr b="0" lang="zh-CN" sz="3200" spc="-1" strike="noStrike">
                <a:solidFill>
                  <a:srgbClr val="333333"/>
                </a:solidFill>
                <a:latin typeface="Tahoma"/>
                <a:ea typeface="宋体"/>
              </a:rPr>
              <a:t>很好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ahoma"/>
                <a:ea typeface="宋体"/>
              </a:rPr>
              <a:t>Excellent         fēi cháng </a:t>
            </a:r>
            <a:r>
              <a:rPr b="0" lang="en-GB" sz="3200" spc="-1" strike="noStrike">
                <a:solidFill>
                  <a:srgbClr val="333333"/>
                </a:solidFill>
                <a:latin typeface="Tahoma"/>
              </a:rPr>
              <a:t>h</a:t>
            </a:r>
            <a:r>
              <a:rPr b="0" lang="en-GB" sz="3200" spc="-1" strike="noStrike">
                <a:solidFill>
                  <a:srgbClr val="333333"/>
                </a:solidFill>
                <a:latin typeface="Tahoma"/>
                <a:ea typeface="Times New Roman"/>
              </a:rPr>
              <a:t>ăo</a:t>
            </a:r>
            <a:r>
              <a:rPr b="0" lang="en-GB" sz="3200" spc="-1" strike="noStrike">
                <a:solidFill>
                  <a:srgbClr val="333333"/>
                </a:solidFill>
                <a:latin typeface="Tahoma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333333"/>
                </a:solidFill>
                <a:latin typeface="Tahoma"/>
                <a:ea typeface="宋体"/>
              </a:rPr>
              <a:t>非常好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e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480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032"/>
                </a:solidFill>
                <a:latin typeface="Tahoma"/>
              </a:rPr>
              <a:t>Lesson objectives </a:t>
            </a:r>
            <a:endParaRPr b="0" lang="en-US" sz="4400" spc="-1" strike="noStrike">
              <a:solidFill>
                <a:srgbClr val="425032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In this lesson you will learn….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Greetings and how to introduce yourself 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How to name family members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How to introduce your family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904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hinese family culture </a:t>
            </a:r>
            <a:endParaRPr b="0" lang="en-US" sz="3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7160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3300"/>
                </a:solidFill>
                <a:latin typeface="Arial"/>
                <a:ea typeface="宋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00360" y="105264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Hello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00360" y="2133720"/>
            <a:ext cx="2663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Nǐ  h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你    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5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826920" y="119700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s your nam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187280" y="2492280"/>
            <a:ext cx="6048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Nĭ jiào shénm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你  叫    什  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2:23:41Z</dcterms:created>
  <dc:creator>Information Services Division</dc:creator>
  <dc:description/>
  <dc:language>en-US</dc:language>
  <cp:lastModifiedBy>HLSS User</cp:lastModifiedBy>
  <dcterms:modified xsi:type="dcterms:W3CDTF">2008-06-12T10:46:13Z</dcterms:modified>
  <cp:revision>31</cp:revision>
  <dc:subject/>
  <dc:title>中   国 China</dc:title>
</cp:coreProperties>
</file>